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7C5-0D81-4912-9A2F-45A82094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41E-1D27-4916-A524-9515BF2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78D-858D-4AD1-859E-B1AE0972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6FE-07A1-4BE8-936E-71C6E060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2A4-CD23-4701-914F-98D95962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7C6-99C5-408D-84A9-28A59EFE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853-B859-4A72-B1BA-36B87784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267-B331-48D2-82B6-DC17AEDE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520-A0E8-46AE-AE2B-8CDF413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33C-8A68-4757-8F59-3B30BE0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AEA-B20D-4860-85FB-D2C586A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846-1EDE-472C-B608-3BF02E17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B33-95A6-44C4-92F3-4D862D425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6429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ЛИЯНИЕ ГОРОДСКИХ ФОНТАНОВ НА СОЗДАНИЕ КОМФОРТНЫХ УСЛОВИЙ ДЛЯ ЛЮДЕЙ»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3680" y="3500280"/>
            <a:ext cx="371448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следовательскую работу                                                                           подготовила уче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«в» класс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лтыкова Анаста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водитель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хайлова Галина Григорь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У г. Омска «СОШ  № 72 с УИОП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нтаны, сделанные рукам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2"/>
          <a:stretch/>
        </p:blipFill>
        <p:spPr>
          <a:xfrm>
            <a:off x="1357200" y="1928880"/>
            <a:ext cx="6072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оративны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гие фонт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4700520" y="265896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8" descr=""/>
          <p:cNvPicPr/>
          <p:nvPr/>
        </p:nvPicPr>
        <p:blipFill>
          <a:blip r:embed="rId4"/>
          <a:stretch/>
        </p:blipFill>
        <p:spPr>
          <a:xfrm>
            <a:off x="5978520" y="4719600"/>
            <a:ext cx="28576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 фонтаны в Омск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ин из первых фонт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11г  исполнилось 100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6" descr=""/>
          <p:cNvPicPr/>
          <p:nvPr/>
        </p:nvPicPr>
        <p:blipFill>
          <a:blip r:embed="rId2"/>
          <a:stretch/>
        </p:blipFill>
        <p:spPr>
          <a:xfrm>
            <a:off x="457200" y="2428920"/>
            <a:ext cx="4040280" cy="371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E:\Documents and Settings\УЧИТЕЛЬ\Рабочий стол\фонтаны\фото\DSCN0441.JPG"/>
          <p:cNvPicPr/>
          <p:nvPr/>
        </p:nvPicPr>
        <p:blipFill>
          <a:blip r:embed="rId3"/>
          <a:stretch/>
        </p:blipFill>
        <p:spPr>
          <a:xfrm>
            <a:off x="4643280" y="2428920"/>
            <a:ext cx="4137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менный цв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роен в 1958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тан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менный цветок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расположен в сквере у улицы Гагарина. Построен в 1958 году, сделан в форме многоярусной вазы, окружённый декоративным бассейном из красного мрам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2"/>
          <a:stretch/>
        </p:blipFill>
        <p:spPr>
          <a:xfrm>
            <a:off x="573120" y="2428920"/>
            <a:ext cx="3809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етомузыкальный фон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зыкальный фонтан находится на театральной площ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 в 1995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2"/>
          <a:stretch/>
        </p:blipFill>
        <p:spPr>
          <a:xfrm>
            <a:off x="428760" y="257184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«Изобил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боках фонтан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корзинами фр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аходится в сквере им. 30 лет ВЛКСМ напротив ОмГУПСа. Был построен в 1956 году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нтан «Изобилие» был установлен в сквере 30-летия ВЛКСМ, все дорожки парка сходятся на этот фонтан. Сквер был открыт еще в 1949 году, но уже тогда было место запланировано под фонтан. Этот сквер излюбленное место для прогулок омичей. Не смотря на то, что фонтан очень старый и требует ремонта, но все равно продолжает исправно выполнять возложенные функции. Фонтан «Изобилие» создан по проекту двух архитекторов В.Д. Дооса и И.Н. Ратько. Фонтан и весь сквер, не смотря на разницу во времени спроектированы в едином стиле – сталинский ампи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в акватории 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69292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3022560"/>
        </p:xfrm>
        <a:graphic>
          <a:graphicData uri="http://schemas.openxmlformats.org/drawingml/2006/table">
            <a:tbl>
              <a:tblPr/>
              <a:tblGrid>
                <a:gridCol w="542880"/>
                <a:gridCol w="2749680"/>
                <a:gridCol w="1644480"/>
                <a:gridCol w="1646280"/>
                <a:gridCol w="1646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е ли вы, что существуют разные виды фонтан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ли улицы города, где находятся фонтаны излюбленным местом отдых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авнительный анализ фотографий улиц города с фонтанами и без н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старого О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6" descr=""/>
          <p:cNvPicPr/>
          <p:nvPr/>
        </p:nvPicPr>
        <p:blipFill>
          <a:blip r:embed="rId2"/>
          <a:stretch/>
        </p:blipFill>
        <p:spPr>
          <a:xfrm>
            <a:off x="500040" y="242892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"/>
          <p:cNvPicPr/>
          <p:nvPr/>
        </p:nvPicPr>
        <p:blipFill>
          <a:blip r:embed="rId3"/>
          <a:stretch/>
        </p:blipFill>
        <p:spPr>
          <a:xfrm>
            <a:off x="4645080" y="2500200"/>
            <a:ext cx="4041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ртышская набереж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8001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0" name="Текст 2"/>
          <p:cNvSpPr/>
          <p:nvPr/>
        </p:nvSpPr>
        <p:spPr>
          <a:xfrm>
            <a:off x="457200" y="714240"/>
            <a:ext cx="790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дых и прогулки у фонт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214280" y="1928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ый вид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3"/>
          <a:stretch/>
        </p:blipFill>
        <p:spPr>
          <a:xfrm>
            <a:off x="642960" y="2643120"/>
            <a:ext cx="3571920" cy="3286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1"/>
          <p:cNvSpPr/>
          <p:nvPr/>
        </p:nvSpPr>
        <p:spPr>
          <a:xfrm>
            <a:off x="5643720" y="1928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ский фон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429160" y="31050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ий способ восстановления сил после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3809880" cy="392904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5" descr=""/>
          <p:cNvPicPr/>
          <p:nvPr/>
        </p:nvPicPr>
        <p:blipFill>
          <a:blip r:embed="rId3"/>
          <a:stretch/>
        </p:blipFill>
        <p:spPr>
          <a:xfrm>
            <a:off x="4857840" y="2143080"/>
            <a:ext cx="3643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временного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2"/>
          <a:stretch/>
        </p:blipFill>
        <p:spPr>
          <a:xfrm>
            <a:off x="1000080" y="2428920"/>
            <a:ext cx="4000680" cy="3643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3"/>
          <a:stretch/>
        </p:blipFill>
        <p:spPr>
          <a:xfrm>
            <a:off x="5857920" y="2428920"/>
            <a:ext cx="25718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одная таблица с результатами сравнения фотограф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186760" cy="4218120"/>
        </p:xfrm>
        <a:graphic>
          <a:graphicData uri="http://schemas.openxmlformats.org/drawingml/2006/table">
            <a:tbl>
              <a:tblPr/>
              <a:tblGrid>
                <a:gridCol w="982800"/>
                <a:gridCol w="3435120"/>
                <a:gridCol w="37688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 виды старого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ы увидели, чт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смотрев виды  современного  города  с фонтанами  мы увидели, что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фотографиях изображены до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идим, что дороги покрыты досками, песком, камням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Редко дороги имеют привлекательный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роги покрыты асфальтом, плит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меют привлекательный ви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исто и уют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е видим большого количества людей, прогуливающихся вдоль у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 видим большое количество улыбающихся людей </a:t>
                      </a: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рогуливающихся с друзьями или со своими питом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"/>
          <p:cNvPicPr/>
          <p:nvPr/>
        </p:nvPicPr>
        <p:blipFill>
          <a:blip r:embed="rId2"/>
          <a:stretch/>
        </p:blipFill>
        <p:spPr>
          <a:xfrm>
            <a:off x="1285920" y="1643040"/>
            <a:ext cx="6786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будущ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72864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ердце отдаю люд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чу, чтобы в  Омске был фонтан в виде серд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люди встречаются около него и говорят друг другу хороши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"/>
          <p:cNvPicPr/>
          <p:nvPr/>
        </p:nvPicPr>
        <p:blipFill>
          <a:blip r:embed="rId2"/>
          <a:stretch/>
        </p:blipFill>
        <p:spPr>
          <a:xfrm>
            <a:off x="4254480" y="700200"/>
            <a:ext cx="3753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стихи об Омске и фонта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есёл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ороде родном фон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дует, резви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ызги в стороны летя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он веселится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лочки родные как вы мне ми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ки голубы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дь речной вод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ветомузыкальный фон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ёт фонтан мелодию т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ская взор своею красото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 дивный взгляд людей становится добр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счастье льётся как фонтан рек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2286000" y="227484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лю тебя, мой Омск родной за яркость улиц, звон кап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теплоту  твоих сердец и соловьиных песен тр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ю тебя за кроткий нрав, за  прямоту души серде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истых скверов красоту и  бег речушек быстротеч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Любимому городу посвящ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вленные задачи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ыли решены. Выдвинутая гипотеза нашла своё подтверждение. Действительно,   омские фонтаны приобретают всё более важное значение в жизни человека. А именно, создают комфортную среду для жизни: улучшают  вид нашего города, создают  хорошее настроение у  Омичей, улучшают экологию города и развивают творческие способности люд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56800" y="1738080"/>
            <a:ext cx="7000920" cy="45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paifo.ru/vse/1201-pamyatnik-knige-v-omsk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iaoo.ru/note1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Ом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liberovcentre.org/oblastnaya-nauchnaya-biblioteka-im-pushkin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orks.tarefer.ru/33/100260/index.html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foto-history.livejournal.com/444382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openarium.ru/Россия/Омск/Фонтаны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етская энциклопедия», Москва, издательство «ТЕРРА», 2009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ановить степень влияния фонтанов на создание комфортности жизни человек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, что обозначает слово «фонта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 какие виды фонтанов существ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ся с   понравившимися фонтанами г. Ом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и сравнить фотографии  города с фонтанами и без фонтанов для подтверждения цел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бота с научной литературой: энциклопедии,  художественные книги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диски, поиск информации в интернете, мониторинг, анализ, классификация, систематизация, обобщ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 предположила, что если в городе будет больше фонтанов, то  повысится комфортность жизни люд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любимейших гидротехнических сооружений человечества всегда были фонтаны. Они не утратили своей популярности и до сегодняшнего дня. Еще несколько столетий назад фонтаны считались очень дорогими и сложными для строительства сооружениями. Далеко не многие архитекторы были способны справиться с созданием фонтана, поэтому их услуги пользовались огромным спросом и стоили очень дор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2"/>
          <a:stretch/>
        </p:blipFill>
        <p:spPr>
          <a:xfrm>
            <a:off x="4753080" y="2000160"/>
            <a:ext cx="3828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слова  «Фонт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8143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новидности фонт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йз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д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"/>
          <p:cNvPicPr/>
          <p:nvPr/>
        </p:nvPicPr>
        <p:blipFill>
          <a:blip r:embed="rId2"/>
          <a:stretch/>
        </p:blipFill>
        <p:spPr>
          <a:xfrm>
            <a:off x="500040" y="2571840"/>
            <a:ext cx="342900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7" descr=""/>
          <p:cNvPicPr/>
          <p:nvPr/>
        </p:nvPicPr>
        <p:blipFill>
          <a:blip r:embed="rId3"/>
          <a:stretch/>
        </p:blipFill>
        <p:spPr>
          <a:xfrm>
            <a:off x="4714920" y="2571840"/>
            <a:ext cx="3643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34:45Z</dcterms:created>
  <dc:creator>User</dc:creator>
  <dc:description/>
  <dc:language>en-US</dc:language>
  <cp:lastModifiedBy>Наталья</cp:lastModifiedBy>
  <dcterms:modified xsi:type="dcterms:W3CDTF">2016-02-06T10:55:03Z</dcterms:modified>
  <cp:revision>62</cp:revision>
  <dc:subject/>
  <dc:title>БОУ ДОД г. Омска ЦДТ «Созвездие» Научно-практическая конференция «Почемучка»</dc:title>
</cp:coreProperties>
</file>