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6.jpeg" ContentType="image/jpeg"/>
  <Override PartName="/ppt/media/image13.jpeg" ContentType="image/jpeg"/>
  <Override PartName="/ppt/media/image8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17.jpeg" ContentType="image/jpeg"/>
  <Override PartName="/ppt/media/image3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3F9EC-9B0D-4090-8B0C-FB5099FB2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15DD5-6A98-4C01-9431-A3E5A3611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1822A-E21C-4FA9-B276-C8A41D0B4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1290D-273E-4275-9222-32515C988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A1249-0419-4FF2-9338-9F8679410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7F4C1-F9B4-43FC-8ACE-E600CC125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9BB76-79A1-4F66-857F-891AC8E73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8DBD6-1BE5-4F88-862B-62B444F0F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F57F0-1FFC-43E6-A33A-8EE85BC43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CA190-6E1F-4742-A8A5-B8AF96F53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D15EE-2510-4E6E-8F11-3DA14E98E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7260B-9659-4610-935A-732B1D69A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0609E-D173-4970-8A1C-D2E9C8390E7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85880" y="642960"/>
            <a:ext cx="7772400" cy="235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НАУЧНО-ИССЛЕДОВАТЕЛЬСКАЯ РАБОТА</a:t>
            </a:r>
            <a:br>
              <a:rPr sz="4000"/>
            </a:br>
            <a:br>
              <a:rPr sz="4000"/>
            </a:b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«ВЛИЯНИЕ ГОРОДСКИХ ФОНТАНОВ НА СОЗДАНИЕ КОМФОРТНЫХ УСЛОВИЙ ДЛЯ ЛЮДЕЙ»</a:t>
            </a:r>
            <a:br>
              <a:rPr sz="4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143680" y="3500280"/>
            <a:ext cx="3714480" cy="2857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8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Исследовательскую работу                                                                           подготовила учениц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4 «в» класса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алтыкова Анастасия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Руководитель проект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Михайлова Галина Григорьевна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учитель начальных класс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ервой квалификационной категори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БОУ г. Омска «СОШ  № 72 с УИОП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Рисунок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Фонтаны, сделанные руками человек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Содержимое 3" descr=""/>
          <p:cNvPicPr/>
          <p:nvPr/>
        </p:nvPicPr>
        <p:blipFill>
          <a:blip r:embed="rId2"/>
          <a:stretch/>
        </p:blipFill>
        <p:spPr>
          <a:xfrm>
            <a:off x="1357200" y="1928880"/>
            <a:ext cx="6072480" cy="40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Рисунок 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иды фонтан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Декоративные фонтан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Другие фонтан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Содержимое 6" descr=""/>
          <p:cNvPicPr/>
          <p:nvPr/>
        </p:nvPicPr>
        <p:blipFill>
          <a:blip r:embed="rId2"/>
          <a:stretch/>
        </p:blipFill>
        <p:spPr>
          <a:xfrm>
            <a:off x="642960" y="2500200"/>
            <a:ext cx="3357720" cy="3357720"/>
          </a:xfrm>
          <a:prstGeom prst="rect">
            <a:avLst/>
          </a:prstGeom>
          <a:ln w="0">
            <a:noFill/>
          </a:ln>
        </p:spPr>
      </p:pic>
      <p:pic>
        <p:nvPicPr>
          <p:cNvPr id="88" name="Содержимое 7" descr=""/>
          <p:cNvPicPr/>
          <p:nvPr/>
        </p:nvPicPr>
        <p:blipFill>
          <a:blip r:embed="rId3"/>
          <a:stretch/>
        </p:blipFill>
        <p:spPr>
          <a:xfrm>
            <a:off x="4700520" y="2658960"/>
            <a:ext cx="2000160" cy="1857600"/>
          </a:xfrm>
          <a:prstGeom prst="rect">
            <a:avLst/>
          </a:prstGeom>
          <a:ln w="0">
            <a:noFill/>
          </a:ln>
        </p:spPr>
      </p:pic>
      <p:pic>
        <p:nvPicPr>
          <p:cNvPr id="89" name="Рисунок 8" descr=""/>
          <p:cNvPicPr/>
          <p:nvPr/>
        </p:nvPicPr>
        <p:blipFill>
          <a:blip r:embed="rId4"/>
          <a:stretch/>
        </p:blipFill>
        <p:spPr>
          <a:xfrm>
            <a:off x="5978520" y="4719600"/>
            <a:ext cx="2857680" cy="190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Рисунок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ервые  фонтаны в Омске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дин из первых фонтан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 2011г  исполнилось 100 ле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Содержимое 6" descr=""/>
          <p:cNvPicPr/>
          <p:nvPr/>
        </p:nvPicPr>
        <p:blipFill>
          <a:blip r:embed="rId2"/>
          <a:stretch/>
        </p:blipFill>
        <p:spPr>
          <a:xfrm>
            <a:off x="457200" y="2428920"/>
            <a:ext cx="4040280" cy="37148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7" descr="E:\Documents and Settings\УЧИТЕЛЬ\Рабочий стол\фонтаны\фото\DSCN0441.JPG"/>
          <p:cNvPicPr/>
          <p:nvPr/>
        </p:nvPicPr>
        <p:blipFill>
          <a:blip r:embed="rId3"/>
          <a:stretch/>
        </p:blipFill>
        <p:spPr>
          <a:xfrm>
            <a:off x="4643280" y="2428920"/>
            <a:ext cx="413712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Рисунок 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аменный цвето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остроен в 1958 г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Фонтан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аменный цветок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расположен в сквере у улицы Гагарина. Построен в 1958 году, сделан в форме многоярусной вазы, окружённый декоративным бассейном из красного мрамор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Содержимое 6" descr=""/>
          <p:cNvPicPr/>
          <p:nvPr/>
        </p:nvPicPr>
        <p:blipFill>
          <a:blip r:embed="rId2"/>
          <a:stretch/>
        </p:blipFill>
        <p:spPr>
          <a:xfrm>
            <a:off x="573120" y="2428920"/>
            <a:ext cx="380988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Рисунок 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ветомузыкальный фонта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Музыкальный фонтан находится на театральной площад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остроен в 1995 год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Содержимое 6" descr=""/>
          <p:cNvPicPr/>
          <p:nvPr/>
        </p:nvPicPr>
        <p:blipFill>
          <a:blip r:embed="rId2"/>
          <a:stretch/>
        </p:blipFill>
        <p:spPr>
          <a:xfrm>
            <a:off x="428760" y="2571840"/>
            <a:ext cx="371448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Рисунок 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Фонтан «Изобилие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75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а боках фонтана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изображения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с корзинами фрукт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Calibri"/>
              </a:rPr>
              <a:t>находится в сквере им. 30 лет ВЛКСМ напротив ОмГУПСа. Был построен в 1956 году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Фонтан «Изобилие» был установлен в сквере 30-летия ВЛКСМ, все дорожки парка сходятся на этот фонтан. Сквер был открыт еще в 1949 году, но уже тогда было место запланировано под фонтан. Этот сквер излюбленное место для прогулок омичей. Не смотря на то, что фонтан очень старый и требует ремонта, но все равно продолжает исправно выполнять возложенные функции. Фонтан «Изобилие» создан по проекту двух архитекторов В.Д. Дооса и И.Н. Ратько. Фонтан и весь сквер, не смотря на разницу во времени спроектированы в едином стиле – сталинский ампир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Содержимое 6" descr=""/>
          <p:cNvPicPr/>
          <p:nvPr/>
        </p:nvPicPr>
        <p:blipFill>
          <a:blip r:embed="rId2"/>
          <a:stretch/>
        </p:blipFill>
        <p:spPr>
          <a:xfrm>
            <a:off x="457200" y="2357280"/>
            <a:ext cx="4040280" cy="38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Рисунок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Фонтан в акватории  ре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Содержимое 3" descr=""/>
          <p:cNvPicPr/>
          <p:nvPr/>
        </p:nvPicPr>
        <p:blipFill>
          <a:blip r:embed="rId2"/>
          <a:stretch/>
        </p:blipFill>
        <p:spPr>
          <a:xfrm>
            <a:off x="1071720" y="1571760"/>
            <a:ext cx="6929280" cy="43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Рисунок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актическая част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457200" y="1600200"/>
          <a:ext cx="8229600" cy="3022560"/>
        </p:xfrm>
        <a:graphic>
          <a:graphicData uri="http://schemas.openxmlformats.org/drawingml/2006/table">
            <a:tbl>
              <a:tblPr/>
              <a:tblGrid>
                <a:gridCol w="542880"/>
                <a:gridCol w="2749680"/>
                <a:gridCol w="1644480"/>
                <a:gridCol w="1646280"/>
                <a:gridCol w="16462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Вопрос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е знаю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наете ли вы, что существуют разные виды фонтанов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 чел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---------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 чел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Являются ли улицы города, где находятся фонтаны излюбленным местом отдыха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 чел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чел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чел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Рисунок 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Сравнительный анализ фотографий улиц города с фонтанами и без них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иды старого Омс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Содержимое 6" descr=""/>
          <p:cNvPicPr/>
          <p:nvPr/>
        </p:nvPicPr>
        <p:blipFill>
          <a:blip r:embed="rId2"/>
          <a:stretch/>
        </p:blipFill>
        <p:spPr>
          <a:xfrm>
            <a:off x="500040" y="2428920"/>
            <a:ext cx="3643200" cy="3643200"/>
          </a:xfrm>
          <a:prstGeom prst="rect">
            <a:avLst/>
          </a:prstGeom>
          <a:ln w="0">
            <a:noFill/>
          </a:ln>
        </p:spPr>
      </p:pic>
      <p:pic>
        <p:nvPicPr>
          <p:cNvPr id="125" name="Содержимое 7" descr=""/>
          <p:cNvPicPr/>
          <p:nvPr/>
        </p:nvPicPr>
        <p:blipFill>
          <a:blip r:embed="rId3"/>
          <a:stretch/>
        </p:blipFill>
        <p:spPr>
          <a:xfrm>
            <a:off x="4645080" y="2500200"/>
            <a:ext cx="4041720" cy="35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Рисунок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Иртышская набережна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Содержимое 3" descr=""/>
          <p:cNvPicPr/>
          <p:nvPr/>
        </p:nvPicPr>
        <p:blipFill>
          <a:blip r:embed="rId2"/>
          <a:stretch/>
        </p:blipFill>
        <p:spPr>
          <a:xfrm>
            <a:off x="714240" y="1857240"/>
            <a:ext cx="8001000" cy="40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644720" y="2174760"/>
            <a:ext cx="4041720" cy="395136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7" descr=""/>
          <p:cNvPicPr/>
          <p:nvPr/>
        </p:nvPicPr>
        <p:blipFill>
          <a:blip r:embed="rId2"/>
          <a:stretch/>
        </p:blipFill>
        <p:spPr>
          <a:xfrm>
            <a:off x="0" y="-142920"/>
            <a:ext cx="9144000" cy="7000920"/>
          </a:xfrm>
          <a:prstGeom prst="rect">
            <a:avLst/>
          </a:prstGeom>
          <a:ln w="0">
            <a:noFill/>
          </a:ln>
        </p:spPr>
      </p:pic>
      <p:sp>
        <p:nvSpPr>
          <p:cNvPr id="50" name="Текст 2"/>
          <p:cNvSpPr/>
          <p:nvPr/>
        </p:nvSpPr>
        <p:spPr>
          <a:xfrm>
            <a:off x="457200" y="714240"/>
            <a:ext cx="7900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Отдых и прогулки у фонтан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9"/>
          <p:cNvSpPr/>
          <p:nvPr/>
        </p:nvSpPr>
        <p:spPr>
          <a:xfrm>
            <a:off x="1214280" y="1928880"/>
            <a:ext cx="271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ступный вид отдых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Содержимое 3" descr=""/>
          <p:cNvPicPr/>
          <p:nvPr/>
        </p:nvPicPr>
        <p:blipFill>
          <a:blip r:embed="rId3"/>
          <a:stretch/>
        </p:blipFill>
        <p:spPr>
          <a:xfrm>
            <a:off x="642960" y="2643120"/>
            <a:ext cx="3571920" cy="3286080"/>
          </a:xfrm>
          <a:prstGeom prst="rect">
            <a:avLst/>
          </a:prstGeom>
          <a:ln w="0">
            <a:noFill/>
          </a:ln>
        </p:spPr>
      </p:pic>
      <p:sp>
        <p:nvSpPr>
          <p:cNvPr id="53" name="Прямоугольник 11"/>
          <p:cNvSpPr/>
          <p:nvPr/>
        </p:nvSpPr>
        <p:spPr>
          <a:xfrm>
            <a:off x="5643720" y="1928880"/>
            <a:ext cx="278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мский фонт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2"/>
          <p:cNvSpPr/>
          <p:nvPr/>
        </p:nvSpPr>
        <p:spPr>
          <a:xfrm>
            <a:off x="5429160" y="3105000"/>
            <a:ext cx="307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учший способ восстановления сил после рабо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Рисунок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иды современного город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Содержимое 4" descr=""/>
          <p:cNvPicPr/>
          <p:nvPr/>
        </p:nvPicPr>
        <p:blipFill>
          <a:blip r:embed="rId2"/>
          <a:stretch/>
        </p:blipFill>
        <p:spPr>
          <a:xfrm>
            <a:off x="571680" y="2143080"/>
            <a:ext cx="3809880" cy="3929040"/>
          </a:xfrm>
          <a:prstGeom prst="rect">
            <a:avLst/>
          </a:prstGeom>
          <a:ln w="0">
            <a:noFill/>
          </a:ln>
        </p:spPr>
      </p:pic>
      <p:pic>
        <p:nvPicPr>
          <p:cNvPr id="132" name="Содержимое 5" descr=""/>
          <p:cNvPicPr/>
          <p:nvPr/>
        </p:nvPicPr>
        <p:blipFill>
          <a:blip r:embed="rId3"/>
          <a:stretch/>
        </p:blipFill>
        <p:spPr>
          <a:xfrm>
            <a:off x="4857840" y="2143080"/>
            <a:ext cx="364320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Рисунок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иды современного город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Содержимое 3" descr=""/>
          <p:cNvPicPr/>
          <p:nvPr/>
        </p:nvPicPr>
        <p:blipFill>
          <a:blip r:embed="rId2"/>
          <a:stretch/>
        </p:blipFill>
        <p:spPr>
          <a:xfrm>
            <a:off x="1000080" y="2428920"/>
            <a:ext cx="4000680" cy="3643200"/>
          </a:xfrm>
          <a:prstGeom prst="rect">
            <a:avLst/>
          </a:prstGeom>
          <a:ln w="0">
            <a:noFill/>
          </a:ln>
        </p:spPr>
      </p:pic>
      <p:pic>
        <p:nvPicPr>
          <p:cNvPr id="136" name="Рисунок 4" descr=""/>
          <p:cNvPicPr/>
          <p:nvPr/>
        </p:nvPicPr>
        <p:blipFill>
          <a:blip r:embed="rId3"/>
          <a:stretch/>
        </p:blipFill>
        <p:spPr>
          <a:xfrm>
            <a:off x="5857920" y="2428920"/>
            <a:ext cx="257184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Рисунок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004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Сводная таблица с результатами сравнения фотографи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57200" y="1600200"/>
          <a:ext cx="8186760" cy="4218120"/>
        </p:xfrm>
        <a:graphic>
          <a:graphicData uri="http://schemas.openxmlformats.org/drawingml/2006/table">
            <a:tbl>
              <a:tblPr/>
              <a:tblGrid>
                <a:gridCol w="982800"/>
                <a:gridCol w="3435120"/>
                <a:gridCol w="3768840"/>
              </a:tblGrid>
              <a:tr h="822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Рассмотрев  виды старого город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мы увидели, что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Рассмотрев виды  современного  города  с фонтанами  мы увидели, что: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801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 фотографиях изображены дом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 фотографиях изображены дом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3114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Видим, что дороги покрыты досками, песком, камнями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Редко дороги имеют привлекательный ви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Дороги покрыты асфальтом, плиткой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Имеют привлекательный вид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Чисто и уютно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282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Не видим большого количества людей, прогуливающихся вдоль ули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Мы видим большое количество улыбающихся людей </a:t>
                      </a:r>
                      <a:r>
                        <a:rPr b="1" lang="ru-RU" sz="16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прогуливающихся с друзьями или со своими питомцам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Рисунок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Фонтан будущег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2" name="Содержимое 3" descr=""/>
          <p:cNvPicPr/>
          <p:nvPr/>
        </p:nvPicPr>
        <p:blipFill>
          <a:blip r:embed="rId2"/>
          <a:stretch/>
        </p:blipFill>
        <p:spPr>
          <a:xfrm>
            <a:off x="1285920" y="1643040"/>
            <a:ext cx="6786360" cy="42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Рисунок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Фонтан будущег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" name="Содержимое 3" descr=""/>
          <p:cNvPicPr/>
          <p:nvPr/>
        </p:nvPicPr>
        <p:blipFill>
          <a:blip r:embed="rId2"/>
          <a:stretch/>
        </p:blipFill>
        <p:spPr>
          <a:xfrm>
            <a:off x="1071720" y="1500120"/>
            <a:ext cx="7286400" cy="45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Рисунок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Сердце отдаю людя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Хочу, чтобы в  Омске был фонтан в виде сердец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усть люди встречаются около него и говорят друг другу хорошие слов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9" name="Содержимое 4" descr=""/>
          <p:cNvPicPr/>
          <p:nvPr/>
        </p:nvPicPr>
        <p:blipFill>
          <a:blip r:embed="rId2"/>
          <a:stretch/>
        </p:blipFill>
        <p:spPr>
          <a:xfrm>
            <a:off x="4254480" y="700200"/>
            <a:ext cx="3753000" cy="49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Рисунок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Мои стихи об Омске и фонтанах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Весёлый фонта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***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 городе родном фонтан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Радует, резвится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Брызги в стороны летя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Как он веселится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***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Улочки родные как вы мне милы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Речки голубые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Гладь речной воды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Светомузыкальный фонта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ёт фонтан мелодию теб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Лаская взор своею красото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  дивный взгляд людей становится добре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 счастье льётся как фонтан рекою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7" name="Прямоугольник 2"/>
          <p:cNvSpPr/>
          <p:nvPr/>
        </p:nvSpPr>
        <p:spPr>
          <a:xfrm>
            <a:off x="2286000" y="2274840"/>
            <a:ext cx="45720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Люблю тебя, мой Омск родной за яркость улиц, звон капел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За теплоту  твоих сердец и соловьиных песен тре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Ценю тебя за кроткий нрав, за  прямоту души сердечн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енистых скверов красоту и  бег речушек быстротечны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Calibri"/>
              </a:rPr>
              <a:t>Любимому городу посвящаетс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Заключе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оставленные задачи исследования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были решены. Выдвинутая гипотеза нашла своё подтверждение. Действительно,   омские фонтаны приобретают всё более важное значение в жизни человека. А именно, создают комфортную среду для жизни: улучшают  вид нашего города, создают  хорошее настроение у  Омичей, улучшают экологию города и развивают творческие способности люде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Рисунок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Список используемой литературы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856800" y="1738080"/>
            <a:ext cx="7000920" cy="458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http://paifo.ru/vse/1201-pamyatnik-knige-v-omske.htm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http://www.iaoo.ru/note15.htm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http://ru.wikipedia.org/wiki/Омск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http://liberovcentre.org/oblastnaya-nauchnaya-biblioteka-im-pushkina/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http://works.tarefer.ru/33/100260/index.html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http://foto-history.livejournal.com/4443821.htm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http://www.openarium.ru/Россия/Омск/Фонтаны/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«Детская энциклопедия», Москва, издательство «ТЕРРА», 2009г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Цель исследова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Установить степень влияния фонтанов на создание комфортности жизни человека 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Задачи исследова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знать, что обозначает слово «фонтан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знать какие виды фонтанов существую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знакомиться с   понравившимися фонтанами г. Омс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зучить и сравнить фотографии  города с фонтанами и без фонтанов для подтверждения цели исследова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Методы исследова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Работа с научной литературой: энциклопедии,  художественные книги,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D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диски, поиск информации в интернете, мониторинг, анализ, классификация, систематизация, обобщени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Гипотеза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Я предположила, что если в городе будет больше фонтанов, то  повысится комфортность жизни людей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Рисунок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Историческая справ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дним из любимейших гидротехнических сооружений человечества всегда были фонтаны. Они не утратили своей популярности и до сегодняшнего дня. Еще несколько столетий назад фонтаны считались очень дорогими и сложными для строительства сооружениями. Далеко не многие архитекторы были способны справиться с созданием фонтана, поэтому их услуги пользовались огромным спросом и стоили очень дорого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Содержимое 4" descr=""/>
          <p:cNvPicPr/>
          <p:nvPr/>
        </p:nvPicPr>
        <p:blipFill>
          <a:blip r:embed="rId2"/>
          <a:stretch/>
        </p:blipFill>
        <p:spPr>
          <a:xfrm>
            <a:off x="4753080" y="2000160"/>
            <a:ext cx="3828960" cy="364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Рисунок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Значение слова  «Фонтан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Содержимое 3" descr=""/>
          <p:cNvPicPr/>
          <p:nvPr/>
        </p:nvPicPr>
        <p:blipFill>
          <a:blip r:embed="rId2"/>
          <a:stretch/>
        </p:blipFill>
        <p:spPr>
          <a:xfrm>
            <a:off x="642960" y="1500120"/>
            <a:ext cx="81439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Рисунок 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Разновидности фонтан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Гейзер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Родник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Содержимое 6" descr=""/>
          <p:cNvPicPr/>
          <p:nvPr/>
        </p:nvPicPr>
        <p:blipFill>
          <a:blip r:embed="rId2"/>
          <a:stretch/>
        </p:blipFill>
        <p:spPr>
          <a:xfrm>
            <a:off x="500040" y="2571840"/>
            <a:ext cx="3429000" cy="3357360"/>
          </a:xfrm>
          <a:prstGeom prst="rect">
            <a:avLst/>
          </a:prstGeom>
          <a:ln w="0">
            <a:noFill/>
          </a:ln>
        </p:spPr>
      </p:pic>
      <p:pic>
        <p:nvPicPr>
          <p:cNvPr id="79" name="Содержимое 7" descr=""/>
          <p:cNvPicPr/>
          <p:nvPr/>
        </p:nvPicPr>
        <p:blipFill>
          <a:blip r:embed="rId3"/>
          <a:stretch/>
        </p:blipFill>
        <p:spPr>
          <a:xfrm>
            <a:off x="4714920" y="2571840"/>
            <a:ext cx="3643200" cy="33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28T11:34:45Z</dcterms:created>
  <dc:creator>User</dc:creator>
  <dc:description/>
  <dc:language>en-US</dc:language>
  <cp:lastModifiedBy>Наталья</cp:lastModifiedBy>
  <dcterms:modified xsi:type="dcterms:W3CDTF">2016-02-06T10:55:03Z</dcterms:modified>
  <cp:revision>62</cp:revision>
  <dc:subject/>
  <dc:title>БОУ ДОД г. Омска ЦДТ «Созвездие» Научно-практическая конференция «Почемучка»</dc:title>
</cp:coreProperties>
</file>