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CF0-8AD4-44F2-9A79-3EA09ACB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721-9512-4CE2-8B90-CCDC364F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578-277D-4498-A02A-D100E983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450-383B-407D-BC89-520859B5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D86-5D26-4B71-BB6A-1146CE77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6CC-8717-4DDF-842C-FDDB4C67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401-7D0E-43E5-A4C6-B8844849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C9C-29E6-4CEB-AC27-E1C0EF20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BB8-519D-4DF8-8F09-A971D552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434-9C8D-4E33-8876-E8864B3C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DDB-42C7-478A-A0CE-3E16038C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762-CC86-40FF-A92B-A8B2008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059A-B950-45D2-B90A-48BD776DB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64296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ЛИЯНИЕ ГОРОДСКИХ ФОНТАНОВ НА СОЗДАНИЕ КОМФОРТНЫХ УСЛОВИЙ ДЛЯ ЛЮДЕЙ»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3680" y="3500280"/>
            <a:ext cx="371448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следовательскую работу                                                                           подготовила уче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 «в» класс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лтыкова Анастас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водитель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ихайлова Галина Григорье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У г. Омска «СОШ  № 72 с УИОП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нтаны, сделанные руками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2"/>
          <a:stretch/>
        </p:blipFill>
        <p:spPr>
          <a:xfrm>
            <a:off x="1357200" y="1928880"/>
            <a:ext cx="6072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фонт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оративные фонт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угие фонт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3357720" cy="335772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4700520" y="2658960"/>
            <a:ext cx="2000160" cy="18576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"/>
          <p:cNvPicPr/>
          <p:nvPr/>
        </p:nvPicPr>
        <p:blipFill>
          <a:blip r:embed="rId4"/>
          <a:stretch/>
        </p:blipFill>
        <p:spPr>
          <a:xfrm>
            <a:off x="5978520" y="4719600"/>
            <a:ext cx="28576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ые  фонтаны в Омск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ин из первых фонта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11г  исполнилось 100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6" descr=""/>
          <p:cNvPicPr/>
          <p:nvPr/>
        </p:nvPicPr>
        <p:blipFill>
          <a:blip r:embed="rId2"/>
          <a:stretch/>
        </p:blipFill>
        <p:spPr>
          <a:xfrm>
            <a:off x="457200" y="2428920"/>
            <a:ext cx="4040280" cy="371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E:\Documents and Settings\УЧИТЕЛЬ\Рабочий стол\фонтаны\фото\DSCN0441.JPG"/>
          <p:cNvPicPr/>
          <p:nvPr/>
        </p:nvPicPr>
        <p:blipFill>
          <a:blip r:embed="rId3"/>
          <a:stretch/>
        </p:blipFill>
        <p:spPr>
          <a:xfrm>
            <a:off x="4643280" y="2428920"/>
            <a:ext cx="4137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менный цве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роен в 1958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нтан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менный цвето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расположен в сквере у улицы Гагарина. Построен в 1958 году, сделан в форме многоярусной вазы, окружённый декоративным бассейном из красного мрам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6" descr=""/>
          <p:cNvPicPr/>
          <p:nvPr/>
        </p:nvPicPr>
        <p:blipFill>
          <a:blip r:embed="rId2"/>
          <a:stretch/>
        </p:blipFill>
        <p:spPr>
          <a:xfrm>
            <a:off x="573120" y="2428920"/>
            <a:ext cx="3809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етомузыкальный фонт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зыкальный фонтан находится на театральной площ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 в 1995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6" descr=""/>
          <p:cNvPicPr/>
          <p:nvPr/>
        </p:nvPicPr>
        <p:blipFill>
          <a:blip r:embed="rId2"/>
          <a:stretch/>
        </p:blipFill>
        <p:spPr>
          <a:xfrm>
            <a:off x="428760" y="257184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«Изобил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боках фонта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ажен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 корзинами фру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находится в сквере им. 30 лет ВЛКСМ напротив ОмГУПСа. Был построен в 1956 год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нтан «Изобилие» был установлен в сквере 30-летия ВЛКСМ, все дорожки парка сходятся на этот фонтан. Сквер был открыт еще в 1949 году, но уже тогда было место запланировано под фонтан. Этот сквер излюбленное место для прогулок омичей. Не смотря на то, что фонтан очень старый и требует ремонта, но все равно продолжает исправно выполнять возложенные функции. Фонтан «Изобилие» создан по проекту двух архитекторов В.Д. Дооса и И.Н. Ратько. Фонтан и весь сквер, не смотря на разницу во времени спроектированы в едином стиле – сталинский ампи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6" descr=""/>
          <p:cNvPicPr/>
          <p:nvPr/>
        </p:nvPicPr>
        <p:blipFill>
          <a:blip r:embed="rId2"/>
          <a:stretch/>
        </p:blipFill>
        <p:spPr>
          <a:xfrm>
            <a:off x="457200" y="2357280"/>
            <a:ext cx="4040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в акватории 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"/>
          <p:cNvPicPr/>
          <p:nvPr/>
        </p:nvPicPr>
        <p:blipFill>
          <a:blip r:embed="rId2"/>
          <a:stretch/>
        </p:blipFill>
        <p:spPr>
          <a:xfrm>
            <a:off x="1071720" y="1571760"/>
            <a:ext cx="69292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ая ч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3022560"/>
        </p:xfrm>
        <a:graphic>
          <a:graphicData uri="http://schemas.openxmlformats.org/drawingml/2006/table">
            <a:tbl>
              <a:tblPr/>
              <a:tblGrid>
                <a:gridCol w="542880"/>
                <a:gridCol w="2749680"/>
                <a:gridCol w="1644480"/>
                <a:gridCol w="1646280"/>
                <a:gridCol w="164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зн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е ли вы, что существуют разные виды фонтан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ли улицы города, где находятся фонтаны излюбленным местом отдых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авнительный анализ фотографий улиц города с фонтанами и без н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старого Ом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6" descr=""/>
          <p:cNvPicPr/>
          <p:nvPr/>
        </p:nvPicPr>
        <p:blipFill>
          <a:blip r:embed="rId2"/>
          <a:stretch/>
        </p:blipFill>
        <p:spPr>
          <a:xfrm>
            <a:off x="500040" y="242892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7" descr=""/>
          <p:cNvPicPr/>
          <p:nvPr/>
        </p:nvPicPr>
        <p:blipFill>
          <a:blip r:embed="rId3"/>
          <a:stretch/>
        </p:blipFill>
        <p:spPr>
          <a:xfrm>
            <a:off x="4645080" y="2500200"/>
            <a:ext cx="4041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ртышская набереж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"/>
          <p:cNvPicPr/>
          <p:nvPr/>
        </p:nvPicPr>
        <p:blipFill>
          <a:blip r:embed="rId2"/>
          <a:stretch/>
        </p:blipFill>
        <p:spPr>
          <a:xfrm>
            <a:off x="714240" y="1857240"/>
            <a:ext cx="8001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50" name="Текст 2"/>
          <p:cNvSpPr/>
          <p:nvPr/>
        </p:nvSpPr>
        <p:spPr>
          <a:xfrm>
            <a:off x="457200" y="714240"/>
            <a:ext cx="79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дых и прогулки у фонт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1214280" y="19288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ный вид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3"/>
          <a:stretch/>
        </p:blipFill>
        <p:spPr>
          <a:xfrm>
            <a:off x="642960" y="2643120"/>
            <a:ext cx="3571920" cy="32860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5643720" y="1928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мский фон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5429160" y="310500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ший способ восстановления сил посл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современного го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3809880" cy="392904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5" descr=""/>
          <p:cNvPicPr/>
          <p:nvPr/>
        </p:nvPicPr>
        <p:blipFill>
          <a:blip r:embed="rId3"/>
          <a:stretch/>
        </p:blipFill>
        <p:spPr>
          <a:xfrm>
            <a:off x="4857840" y="2143080"/>
            <a:ext cx="3643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современного го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2"/>
          <a:stretch/>
        </p:blipFill>
        <p:spPr>
          <a:xfrm>
            <a:off x="1000080" y="2428920"/>
            <a:ext cx="4000680" cy="36432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"/>
          <p:cNvPicPr/>
          <p:nvPr/>
        </p:nvPicPr>
        <p:blipFill>
          <a:blip r:embed="rId3"/>
          <a:stretch/>
        </p:blipFill>
        <p:spPr>
          <a:xfrm>
            <a:off x="5857920" y="2428920"/>
            <a:ext cx="25718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одная таблица с результатами сравнения фотограф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186760" cy="4218120"/>
        </p:xfrm>
        <a:graphic>
          <a:graphicData uri="http://schemas.openxmlformats.org/drawingml/2006/table">
            <a:tbl>
              <a:tblPr/>
              <a:tblGrid>
                <a:gridCol w="982800"/>
                <a:gridCol w="3435120"/>
                <a:gridCol w="376884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смотрев  виды старого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ы увидели, чт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смотрев виды  современного  города  с фонтанами  мы увидели, что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фотографиях изображены д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фотографиях изображены д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идим, что дороги покрыты досками, песком, камням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Редко дороги имеют привлекательный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роги покрыты асфальтом, плит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меют привлекательный ви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исто и уют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е видим большого количества людей, прогуливающихся вдоль у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 видим большое количество улыбающихся людей </a:t>
                      </a: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рогуливающихся с друзьями или со своими питом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будущ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Содержимое 3" descr=""/>
          <p:cNvPicPr/>
          <p:nvPr/>
        </p:nvPicPr>
        <p:blipFill>
          <a:blip r:embed="rId2"/>
          <a:stretch/>
        </p:blipFill>
        <p:spPr>
          <a:xfrm>
            <a:off x="1285920" y="1643040"/>
            <a:ext cx="6786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будущ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"/>
          <p:cNvPicPr/>
          <p:nvPr/>
        </p:nvPicPr>
        <p:blipFill>
          <a:blip r:embed="rId2"/>
          <a:stretch/>
        </p:blipFill>
        <p:spPr>
          <a:xfrm>
            <a:off x="1071720" y="1500120"/>
            <a:ext cx="7286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ердце отдаю люд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чу, чтобы в  Омске был фонтан в виде серд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люди встречаются около него и говорят друг другу хороши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4" descr=""/>
          <p:cNvPicPr/>
          <p:nvPr/>
        </p:nvPicPr>
        <p:blipFill>
          <a:blip r:embed="rId2"/>
          <a:stretch/>
        </p:blipFill>
        <p:spPr>
          <a:xfrm>
            <a:off x="4254480" y="700200"/>
            <a:ext cx="37530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и стихи об Омске и фонтан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есёлый фон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городе родном фонт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дует, резви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рызги в стороны летя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он веселится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лочки родные как вы мне мил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чки голуб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дь речной вод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ветомузыкальный фон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ёт фонтан мелодию те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ская взор своею красот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 дивный взгляд людей становится добр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счастье льётся как фонтан рек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2"/>
          <p:cNvSpPr/>
          <p:nvPr/>
        </p:nvSpPr>
        <p:spPr>
          <a:xfrm>
            <a:off x="2286000" y="227484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лю тебя, мой Омск родной за яркость улиц, звон кап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теплоту  твоих сердец и соловьиных песен тр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ю тебя за кроткий нрав, за  прямоту души серде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нистых скверов красоту и  бег речушек быстротеч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Любимому городу посвящае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вленные задачи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ыли решены. Выдвинутая гипотеза нашла своё подтверждение. Действительно,   омские фонтаны приобретают всё более важное значение в жизни человека. А именно, создают комфортную среду для жизни: улучшают  вид нашего города, создают  хорошее настроение у  Омичей, улучшают экологию города и развивают творческие способности лю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56800" y="1738080"/>
            <a:ext cx="7000920" cy="45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paifo.ru/vse/1201-pamyatnik-knige-v-omske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iaoo.ru/note15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ru.wikipedia.org/wiki/Ом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liberovcentre.org/oblastnaya-nauchnaya-biblioteka-im-pushkin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orks.tarefer.ru/33/100260/index.html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foto-history.livejournal.com/444382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openarium.ru/Россия/Омск/Фонтаны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етская энциклопедия», Москва, издательство «ТЕРРА», 2009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ановить степень влияния фонтанов на создание комфортности жизни человека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, что обозначает слово «фонта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 какие виды фонтанов существ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ся с   понравившимися фонтанами г. Ом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и сравнить фотографии  города с фонтанами и без фонтанов для подтверждения цели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бота с научной литературой: энциклопедии,  художественные книги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диски, поиск информации в интернете, мониторинг, анализ, классификация, систематизация, обобщ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Я предположила, что если в городе будет больше фонтанов, то  повысится комфортность жизни люде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м из любимейших гидротехнических сооружений человечества всегда были фонтаны. Они не утратили своей популярности и до сегодняшнего дня. Еще несколько столетий назад фонтаны считались очень дорогими и сложными для строительства сооружениями. Далеко не многие архитекторы были способны справиться с созданием фонтана, поэтому их услуги пользовались огромным спросом и стоили очень дор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"/>
          <p:cNvPicPr/>
          <p:nvPr/>
        </p:nvPicPr>
        <p:blipFill>
          <a:blip r:embed="rId2"/>
          <a:stretch/>
        </p:blipFill>
        <p:spPr>
          <a:xfrm>
            <a:off x="4753080" y="2000160"/>
            <a:ext cx="38289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чение слова  «Фонта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814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новидности фонт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йз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д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3429000" cy="335736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7" descr=""/>
          <p:cNvPicPr/>
          <p:nvPr/>
        </p:nvPicPr>
        <p:blipFill>
          <a:blip r:embed="rId3"/>
          <a:stretch/>
        </p:blipFill>
        <p:spPr>
          <a:xfrm>
            <a:off x="4714920" y="2571840"/>
            <a:ext cx="3643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1:34:45Z</dcterms:created>
  <dc:creator>User</dc:creator>
  <dc:description/>
  <dc:language>en-US</dc:language>
  <cp:lastModifiedBy>Наталья</cp:lastModifiedBy>
  <dcterms:modified xsi:type="dcterms:W3CDTF">2016-02-06T10:55:03Z</dcterms:modified>
  <cp:revision>62</cp:revision>
  <dc:subject/>
  <dc:title>БОУ ДОД г. Омска ЦДТ «Созвездие» Научно-практическая конференция «Почемучка»</dc:title>
</cp:coreProperties>
</file>