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28.jpeg" ContentType="image/jpeg"/>
  <Override PartName="/ppt/media/image18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F28-EB35-4A04-82C9-7647920C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136-1FFC-4BD9-853C-090963D8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718-8A73-4B8C-ABB1-4ED8D5C3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059-98C0-4A53-88F4-63076A40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2CD3-E07B-4C6E-9CFE-D87EA7D3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BD9F-1DAB-4AAA-92E9-77994C04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F4D0-C9BC-44CC-8F1B-B966637E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FC2F-C3F3-4324-B4AC-499A8238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B8AC-DF71-47D3-86C3-2B8B29A8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44D1-880E-4B6F-B699-8D6FF704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BB65-6CD8-4174-A2A2-CAB7154B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533-1F0C-4752-A2C2-513D4711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E665-1A8D-4BE6-BA8C-5C8A220F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52B6-E6DF-48CA-AB06-5F1742A6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A2E2-FF0B-4CED-97AB-FE93E5FB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D28C-DB1E-4984-A6F2-F33BDE28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AF62-D596-4AE5-A281-8213B7D9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71317-AA31-4E41-BF6A-A14248E2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DB284-07C8-47D8-8BAA-FD0BAC6A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70DC3-12B2-45D1-BBA6-3CD88A66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5F58A-E868-41A9-BF48-A580E95C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63562-8393-45BD-8060-3F903D09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096-429F-4973-BC03-7458AC73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188B5-F66D-49AD-909D-BBC65968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E3A9-A0DF-4B0F-89F4-D36D3056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71F04-13AD-46B6-AFE9-676887B7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70666-5CEF-468B-848D-68481073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52229-9D8F-481F-B7DB-DD28710F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3CEA4-0475-44A5-A56A-6DFD1A7B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7265E-A482-4A07-97CC-FCE5D91C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4B562-B8CC-4AFB-8935-7B0ED847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770C8-D597-4C03-8B8C-3A454911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40543-5012-4AFB-9C8F-2B35C415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A04-C00D-4B9F-9F89-0568FC9D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AC7F1-D2A6-4584-944D-49012835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C3B15-C4ED-4E26-AF05-D7AD053A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48375-9132-4D89-9266-D215C894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EF2F6-398F-4F59-B537-7715628B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06A03-8348-42ED-8598-0A765557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5AC86-65C3-4E88-89CA-008E8C11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1881-1D01-4008-BDCC-A7649200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282B6-7B92-41A4-9909-28B24CCD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54C36-9530-442D-96D2-35253C0F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0921B-F3E3-4640-AFD2-D420229C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20C-9112-470C-827A-3D12A867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27F94-D1D1-46FC-B065-5EA15AC5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930A3-45DA-44BB-BDB2-A83C2CAB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72B16-0B60-4D98-8DF5-11FA48E0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12C38-58D4-4C77-A956-BAC34C66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9691E-0D72-4918-AE1A-C3709991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A2F74-6856-400E-9808-28612140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B041E-9B35-4FE5-A409-0213A9A9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C42D6-E05F-4D76-A3FA-8C63AECD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4D7CA-62E3-4AA7-9CE2-C66B92D2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E1D64-7569-469E-8403-3D770503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FE7-2C56-4940-8BE2-B2460DEE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E9BAD-16E2-4C8A-9598-81723C89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F064-E59D-42F2-A416-EE146AD7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C4F1-2BBB-4BB2-A601-375879E0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6AB-8FAF-4336-8B54-32C09FBF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0A20-9E15-41E8-B3D0-3611E035DF5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762F-2AE5-416B-98C1-469D06F1B8A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D347-DFFA-41B6-939D-127BCE2C245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51D4-8E59-4313-ABF8-491673BC9DD3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AC30-F3C9-40BD-8A34-B5A3921627F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39880"/>
            <a:ext cx="5114880" cy="288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оделка «Весёлая обезьянка»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Автор: Никифорова Татьяна Ильинична,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читель начальных классов МБОУ СОШ р.п. Ровное Саратовской област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2" descr="C:\Documents and Settings\Admin\Рабочий стол\на мастер-класс\Изображение 026.jpg"/>
          <p:cNvPicPr/>
          <p:nvPr/>
        </p:nvPicPr>
        <p:blipFill>
          <a:blip r:embed="rId2"/>
          <a:stretch/>
        </p:blipFill>
        <p:spPr>
          <a:xfrm>
            <a:off x="0" y="1000080"/>
            <a:ext cx="31431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7255080" cy="658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ля работы приготовьте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Цветной картон или цветную бумагу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ист плотного картона для туловища и головы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лей ПВА (или другой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проновые чулки или трикотажную ткань, нарезанные из ткани или чулок 5 полосок одной длины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теплер или нитки с иголкой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ожницы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усочки мех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7255080" cy="725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28760" y="928440"/>
            <a:ext cx="72388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Из плотного картона вырезать два круга с любым диаметром. Это будут заготовки для туловища и головы. Затем обтянуть круги чулками или тканью, как на фото. Закрепить с обратной стороны клеем, степлером или прошить ниткой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2" descr="C:\Documents and Settings\Admin\Рабочий стол\на мастер-класс\Изображение 037.jpg"/>
          <p:cNvPicPr/>
          <p:nvPr/>
        </p:nvPicPr>
        <p:blipFill>
          <a:blip r:embed="rId2"/>
          <a:srcRect l="0" t="0" r="36214" b="0"/>
          <a:stretch/>
        </p:blipFill>
        <p:spPr>
          <a:xfrm>
            <a:off x="285840" y="1785960"/>
            <a:ext cx="3571920" cy="4071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Documents and Settings\Admin\Рабочий стол\на мастер-класс\Изображение 039.jpg"/>
          <p:cNvPicPr/>
          <p:nvPr/>
        </p:nvPicPr>
        <p:blipFill>
          <a:blip r:embed="rId3"/>
          <a:stretch/>
        </p:blipFill>
        <p:spPr>
          <a:xfrm>
            <a:off x="4071960" y="1928880"/>
            <a:ext cx="371484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28760" y="142920"/>
            <a:ext cx="7238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риступаем к дизайну туловища обезьянки. Вырезаем «живот» - овал из картона или цветной бумаги и прикрепляем к нему «пупочек». Затем приклеиваем «живот» на туловище (круг, который мы предварительно обтянули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2" descr="C:\Documents and Settings\Admin\Рабочий стол\на мастер-класс\Изображение 040.jpg"/>
          <p:cNvPicPr/>
          <p:nvPr/>
        </p:nvPicPr>
        <p:blipFill>
          <a:blip r:embed="rId1"/>
          <a:stretch/>
        </p:blipFill>
        <p:spPr>
          <a:xfrm>
            <a:off x="142920" y="1357200"/>
            <a:ext cx="4000320" cy="3857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Documents and Settings\Admin\Рабочий стол\на мастер-класс\Изображение 038.jpg"/>
          <p:cNvPicPr/>
          <p:nvPr/>
        </p:nvPicPr>
        <p:blipFill>
          <a:blip r:embed="rId2"/>
          <a:stretch/>
        </p:blipFill>
        <p:spPr>
          <a:xfrm>
            <a:off x="4357800" y="1285920"/>
            <a:ext cx="35719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14200" y="214200"/>
            <a:ext cx="842976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Далее приступаем к дизайну головы обезьянки. Вырезаем глазки, приклеиваем их. Для изготовления мордочки вырезаем из картона или цветной бумаги овал, на него прикрепляем рот и ноздри, затем приклеиваем (пришиваем) к кругу. Здесь можно пофантазировать – приделать обезьянке парик, серёжки и т.д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C:\Documents and Settings\Admin\Рабочий стол\на мастер-класс\Изображение 042.jpg"/>
          <p:cNvPicPr/>
          <p:nvPr/>
        </p:nvPicPr>
        <p:blipFill>
          <a:blip r:embed="rId1"/>
          <a:stretch/>
        </p:blipFill>
        <p:spPr>
          <a:xfrm>
            <a:off x="214200" y="1928880"/>
            <a:ext cx="3714840" cy="3571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Documents and Settings\Admin\Рабочий стол\на мастер-класс\Изображение 045.jpg"/>
          <p:cNvPicPr/>
          <p:nvPr/>
        </p:nvPicPr>
        <p:blipFill>
          <a:blip r:embed="rId2"/>
          <a:stretch/>
        </p:blipFill>
        <p:spPr>
          <a:xfrm>
            <a:off x="4357800" y="2071800"/>
            <a:ext cx="37144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00040" y="142920"/>
            <a:ext cx="7238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ырезаем ушки для обезьянки, как на фото. Прикрепляем их к кругу. Затем уже готовые оформленные голову и туловище соединяем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C:\Documents and Settings\Admin\Рабочий стол\на мастер-класс\Изображение 041.jpg"/>
          <p:cNvPicPr/>
          <p:nvPr/>
        </p:nvPicPr>
        <p:blipFill>
          <a:blip r:embed="rId1"/>
          <a:srcRect l="0" t="0" r="35987" b="33219"/>
          <a:stretch/>
        </p:blipFill>
        <p:spPr>
          <a:xfrm>
            <a:off x="142920" y="714240"/>
            <a:ext cx="3000240" cy="2786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Admin\Рабочий стол\на мастер-класс\Изображение 050.jpg"/>
          <p:cNvPicPr/>
          <p:nvPr/>
        </p:nvPicPr>
        <p:blipFill>
          <a:blip r:embed="rId2"/>
          <a:srcRect l="25310" t="0" r="0" b="25310"/>
          <a:stretch/>
        </p:blipFill>
        <p:spPr>
          <a:xfrm>
            <a:off x="214200" y="3571920"/>
            <a:ext cx="2928960" cy="2786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Documents and Settings\Admin\Рабочий стол\на мастер-класс\Изображение 035.jpg"/>
          <p:cNvPicPr/>
          <p:nvPr/>
        </p:nvPicPr>
        <p:blipFill>
          <a:blip r:embed="rId3"/>
          <a:stretch/>
        </p:blipFill>
        <p:spPr>
          <a:xfrm>
            <a:off x="3857760" y="857160"/>
            <a:ext cx="42861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7255080" cy="658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6840" y="785880"/>
            <a:ext cx="79009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ырезаем 4 детали для лапок обезьянки из картона. Их можно сделать одинаковыми, а можно и пофантазировать. Затем прикрепляем к 4 полоскам ткани (к чулкам) с помощью степлера, ниток или клея. На конец хвостика прикрепить кусочек мех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Picture 2" descr="C:\Documents and Settings\Admin\Рабочий стол\на мастер-класс\Изображение 052.jpg"/>
          <p:cNvPicPr/>
          <p:nvPr/>
        </p:nvPicPr>
        <p:blipFill>
          <a:blip r:embed="rId2"/>
          <a:stretch/>
        </p:blipFill>
        <p:spPr>
          <a:xfrm>
            <a:off x="928800" y="1857240"/>
            <a:ext cx="3527280" cy="1764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C:\Documents and Settings\Admin\Рабочий стол\на мастер-класс\Изображение 054.jpg"/>
          <p:cNvPicPr/>
          <p:nvPr/>
        </p:nvPicPr>
        <p:blipFill>
          <a:blip r:embed="rId3"/>
          <a:stretch/>
        </p:blipFill>
        <p:spPr>
          <a:xfrm>
            <a:off x="571680" y="4143240"/>
            <a:ext cx="3214440" cy="2411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C:\Documents and Settings\Admin\Рабочий стол\на мастер-класс\Изображение 051.jpg"/>
          <p:cNvPicPr/>
          <p:nvPr/>
        </p:nvPicPr>
        <p:blipFill>
          <a:blip r:embed="rId4"/>
          <a:stretch/>
        </p:blipFill>
        <p:spPr>
          <a:xfrm>
            <a:off x="4786200" y="4214880"/>
            <a:ext cx="2853000" cy="2463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C:\Documents and Settings\Admin\Рабочий стол\на мастер-класс\Изображение 055.jpg"/>
          <p:cNvPicPr/>
          <p:nvPr/>
        </p:nvPicPr>
        <p:blipFill>
          <a:blip r:embed="rId5"/>
          <a:stretch/>
        </p:blipFill>
        <p:spPr>
          <a:xfrm>
            <a:off x="5286240" y="1571760"/>
            <a:ext cx="264348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639720" y="133200"/>
            <a:ext cx="7066080" cy="658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92844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крепляем с помощью ниток, степлера, или клея лапки и хвостик к туловищу обезьянк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2" descr="C:\Documents and Settings\Admin\Рабочий стол\на мастер-класс\Изображение 032.jpg"/>
          <p:cNvPicPr/>
          <p:nvPr/>
        </p:nvPicPr>
        <p:blipFill>
          <a:blip r:embed="rId2"/>
          <a:stretch/>
        </p:blipFill>
        <p:spPr>
          <a:xfrm>
            <a:off x="2928960" y="1928880"/>
            <a:ext cx="2787480" cy="4071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C:\Documents and Settings\Admin\Рабочий стол\на мастер-класс\Изображение 033.jpg"/>
          <p:cNvPicPr/>
          <p:nvPr/>
        </p:nvPicPr>
        <p:blipFill>
          <a:blip r:embed="rId3"/>
          <a:stretch/>
        </p:blipFill>
        <p:spPr>
          <a:xfrm>
            <a:off x="214200" y="1928880"/>
            <a:ext cx="2643480" cy="4000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:\Documents and Settings\Admin\Рабочий стол\на мастер-класс\Изображение 031.jpg"/>
          <p:cNvPicPr/>
          <p:nvPr/>
        </p:nvPicPr>
        <p:blipFill>
          <a:blip r:embed="rId4"/>
          <a:stretch/>
        </p:blipFill>
        <p:spPr>
          <a:xfrm>
            <a:off x="5929200" y="1928880"/>
            <a:ext cx="29163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7255080" cy="658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Documents and Settings\Admin\Рабочий стол\на мастер-класс\Изображение 022.jpg"/>
          <p:cNvPicPr/>
          <p:nvPr/>
        </p:nvPicPr>
        <p:blipFill>
          <a:blip r:embed="rId2"/>
          <a:stretch/>
        </p:blipFill>
        <p:spPr>
          <a:xfrm>
            <a:off x="285840" y="1143000"/>
            <a:ext cx="6572160" cy="4929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Documents and Settings\Admin\Рабочий стол\на мастер-класс\Изображение 026.jpg"/>
          <p:cNvPicPr/>
          <p:nvPr/>
        </p:nvPicPr>
        <p:blipFill>
          <a:blip r:embed="rId3"/>
          <a:stretch/>
        </p:blipFill>
        <p:spPr>
          <a:xfrm>
            <a:off x="6858000" y="2006640"/>
            <a:ext cx="164304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2-02-17T08:03:25Z</dcterms:modified>
  <cp:revision>7</cp:revision>
  <dc:subject/>
  <dc:title>Мастер-класс</dc:title>
</cp:coreProperties>
</file>