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A2E-A06B-4564-9E48-F4250255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4A7-68C6-498F-84FF-BD90217D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765-5DEC-408E-ABAC-1394D54F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86C-0D58-47E5-A24D-E270C3CC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03A-DB53-4A40-B474-6392C581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6AA-2C6C-422B-80A7-CA901E25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F0B-E604-4BA0-A0B8-994EB9B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00B-CE9C-4362-94E1-67B7BED0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891-8A4C-4C34-AF54-6AECC2BC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4BD-E75A-4614-8979-EDE10B4D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8A5-B4A6-43BD-AF8F-C0AB895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A3C-002E-40E6-953E-F2748D46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2F45-CCE0-4D7A-B909-33E5BDC59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88880" y="1557360"/>
            <a:ext cx="9144000" cy="3750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БОТЫ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ОЗДОР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88880" y="5661000"/>
            <a:ext cx="9144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Заведующий структурным подразделением                    Ключнико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0160" y="333360"/>
            <a:ext cx="92898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  учреждение Самарской области </a:t>
            </a:r>
            <a:br>
              <a:rPr sz="1200"/>
            </a:b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Солныш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72880" y="642960"/>
            <a:ext cx="943308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помещений детского с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язанных с пребыванием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220" name="_s39964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9963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Кач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кущ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9968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9967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част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енер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39972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39971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9976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39975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70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9969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аркиров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бел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, бе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39962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ветрив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74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9973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Освещ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61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9953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мпера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52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7"/>
          <p:cNvSpPr/>
          <p:nvPr/>
        </p:nvSpPr>
        <p:spPr>
          <a:xfrm>
            <a:off x="272880" y="836640"/>
            <a:ext cx="9433080" cy="5582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птимальное использование комплекса оздоровительных мероприятий в условиях дошкольного учреждения привело к определенным положительным результа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 -2011гг. произошло увеличение количества детей со 2-ой группой – на 3% и снижение количества детей с 3-ей группой здоровья на 4,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-2011гг. снизилось количество дней, пропущенных одним ребенком по болезни  (с 6,8 до 6,1), </a:t>
            </a:r>
            <a:r>
              <a:rPr b="1" lang="ru-RU" sz="1700" spc="-1" strike="noStrike">
                <a:solidFill>
                  <a:srgbClr val="0033cc"/>
                </a:solidFill>
                <a:latin typeface="Arial"/>
              </a:rPr>
              <a:t>что ниже среднего районного показателя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лучаев заболеваний в 2011 году по сравнению с 2009 годом уменьшилось на 17 (с 192 до 17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  в 2011 году снизилась заболеваемость на 1000 детей по сравнению с 2009 годом на 131 (с 1477 до 1346), что ниже среднего районного показ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260280"/>
            <a:ext cx="929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равнительный анализ заболеваемости на 1000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4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00160" y="333360"/>
            <a:ext cx="92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МДОУ детский сад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9240" y="1844640"/>
          <a:ext cx="8410680" cy="36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240" y="1844640"/>
                    <a:ext cx="8410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"/>
          <p:cNvSpPr/>
          <p:nvPr/>
        </p:nvSpPr>
        <p:spPr>
          <a:xfrm>
            <a:off x="631800" y="5661000"/>
            <a:ext cx="8899560" cy="61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 2009 по 2011 год заболеваемость на одного ребенка снизилась на 131      (с 1477 до 13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0160" y="692280"/>
            <a:ext cx="9418320" cy="5256000"/>
            <a:chOff x="200160" y="692280"/>
            <a:chExt cx="9418320" cy="5256000"/>
          </a:xfrm>
        </p:grpSpPr>
        <p:sp>
          <p:nvSpPr>
            <p:cNvPr id="46" name="_s2076"/>
            <p:cNvSpPr/>
            <p:nvPr/>
          </p:nvSpPr>
          <p:spPr>
            <a:xfrm>
              <a:off x="773280" y="692280"/>
              <a:ext cx="837504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рганизационно-методическое и материаль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беспечение оздоровления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144880" y="2200320"/>
              <a:ext cx="16887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Рацион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7831800" y="2200320"/>
              <a:ext cx="1688400" cy="78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 родител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5888520" y="2200320"/>
              <a:ext cx="16923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тод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3"/>
            <p:cNvSpPr/>
            <p:nvPr/>
          </p:nvSpPr>
          <p:spPr>
            <a:xfrm>
              <a:off x="401580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20016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Создание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сло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2001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ибкий режим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зал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голков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руппах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лощад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3"/>
            <p:cNvSpPr/>
            <p:nvPr/>
          </p:nvSpPr>
          <p:spPr>
            <a:xfrm>
              <a:off x="207252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Зимне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осен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-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круж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9420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цион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тор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втрак (соки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Питьев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59259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сове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мен опыт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инар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зу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ограм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ннов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Смотр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курс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7788960" y="3355560"/>
              <a:ext cx="1829520" cy="2592720"/>
            </a:xfrm>
            <a:custGeom>
              <a:avLst/>
              <a:gdLst>
                <a:gd name="textAreaLeft" fmla="*/ 89280 w 1829520"/>
                <a:gd name="textAreaRight" fmla="*/ 1740240 w 1829520"/>
                <a:gd name="textAreaTop" fmla="*/ 89280 h 2592720"/>
                <a:gd name="textAreaBottom" fmla="*/ 2503440 h 2592720"/>
              </a:gdLst>
              <a:ahLst/>
              <a:rect l="textAreaLeft" t="textAreaTop" r="textAreaRight" b="textAreaBottom"/>
              <a:pathLst>
                <a:path w="21600" h="30609">
                  <a:moveTo>
                    <a:pt x="3600" y="0"/>
                  </a:moveTo>
                  <a:arcTo wR="3600" hR="3600" stAng="16200000" swAng="-5400000"/>
                  <a:lnTo>
                    <a:pt x="0" y="27009"/>
                  </a:lnTo>
                  <a:arcTo wR="3600" hR="3600" stAng="10800000" swAng="-5400000"/>
                  <a:lnTo>
                    <a:pt x="18000" y="30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одитель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бр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нкетиров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аздник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Дни откры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ер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ыпу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азе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1600" y="1628640"/>
            <a:ext cx="0" cy="57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1773360"/>
            <a:ext cx="7630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81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5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97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81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3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9796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3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81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488880" y="642960"/>
            <a:ext cx="9217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хема оздоровите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92160" y="1197000"/>
            <a:ext cx="8064000" cy="5400360"/>
            <a:chOff x="992160" y="1197000"/>
            <a:chExt cx="8064000" cy="540036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629880" y="2215080"/>
              <a:ext cx="107640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 flipV="1">
              <a:off x="2793960" y="2998080"/>
              <a:ext cx="1713240" cy="72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2364840" y="3919680"/>
              <a:ext cx="2069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 flipH="1">
              <a:off x="2706840" y="4119480"/>
              <a:ext cx="1800360" cy="75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607200" y="4264920"/>
              <a:ext cx="110088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8"/>
            <p:cNvSpPr/>
            <p:nvPr/>
          </p:nvSpPr>
          <p:spPr>
            <a:xfrm>
              <a:off x="4982400" y="4318200"/>
              <a:ext cx="1800" cy="1652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0"/>
            <p:cNvSpPr/>
            <p:nvPr/>
          </p:nvSpPr>
          <p:spPr>
            <a:xfrm>
              <a:off x="5256720" y="4264920"/>
              <a:ext cx="110592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2"/>
            <p:cNvSpPr/>
            <p:nvPr/>
          </p:nvSpPr>
          <p:spPr>
            <a:xfrm>
              <a:off x="5455440" y="4118040"/>
              <a:ext cx="1885320" cy="79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4"/>
            <p:cNvSpPr/>
            <p:nvPr/>
          </p:nvSpPr>
          <p:spPr>
            <a:xfrm>
              <a:off x="5529240" y="3918240"/>
              <a:ext cx="2153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6"/>
            <p:cNvSpPr/>
            <p:nvPr/>
          </p:nvSpPr>
          <p:spPr>
            <a:xfrm flipV="1">
              <a:off x="5455440" y="2997720"/>
              <a:ext cx="1713240" cy="72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8"/>
            <p:cNvSpPr/>
            <p:nvPr/>
          </p:nvSpPr>
          <p:spPr>
            <a:xfrm flipV="1">
              <a:off x="5254560" y="2215080"/>
              <a:ext cx="107604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50"/>
            <p:cNvSpPr/>
            <p:nvPr/>
          </p:nvSpPr>
          <p:spPr>
            <a:xfrm flipV="1">
              <a:off x="4982400" y="1823040"/>
              <a:ext cx="0" cy="169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2357640" y="1509480"/>
              <a:ext cx="1637280" cy="86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варцевание групповых комн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1"/>
            <p:cNvSpPr/>
            <p:nvPr/>
          </p:nvSpPr>
          <p:spPr>
            <a:xfrm>
              <a:off x="1335960" y="2456280"/>
              <a:ext cx="1637640" cy="86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онсультации «Неболейкин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992160" y="3486600"/>
              <a:ext cx="1637640" cy="86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филактика ОРЗ, гри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5"/>
            <p:cNvSpPr/>
            <p:nvPr/>
          </p:nvSpPr>
          <p:spPr>
            <a:xfrm>
              <a:off x="1335960" y="4516560"/>
              <a:ext cx="1637640" cy="86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гулки на свежем воздух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7"/>
            <p:cNvSpPr/>
            <p:nvPr/>
          </p:nvSpPr>
          <p:spPr>
            <a:xfrm>
              <a:off x="2364840" y="5496480"/>
              <a:ext cx="1637640" cy="86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4163400" y="5731200"/>
              <a:ext cx="1637640" cy="866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 после с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1"/>
            <p:cNvSpPr/>
            <p:nvPr/>
          </p:nvSpPr>
          <p:spPr>
            <a:xfrm>
              <a:off x="5960160" y="5496480"/>
              <a:ext cx="1637640" cy="866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Мину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релак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6989040" y="4514760"/>
              <a:ext cx="1637640" cy="86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Организация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5"/>
            <p:cNvSpPr/>
            <p:nvPr/>
          </p:nvSpPr>
          <p:spPr>
            <a:xfrm>
              <a:off x="7418520" y="3484800"/>
              <a:ext cx="1637640" cy="86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Массаж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по   А.А. Уман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7"/>
            <p:cNvSpPr/>
            <p:nvPr/>
          </p:nvSpPr>
          <p:spPr>
            <a:xfrm>
              <a:off x="6989040" y="2454840"/>
              <a:ext cx="1637640" cy="866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9"/>
            <p:cNvSpPr/>
            <p:nvPr/>
          </p:nvSpPr>
          <p:spPr>
            <a:xfrm>
              <a:off x="5960160" y="1509480"/>
              <a:ext cx="1637640" cy="865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Фито и арома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51"/>
            <p:cNvSpPr/>
            <p:nvPr/>
          </p:nvSpPr>
          <p:spPr>
            <a:xfrm>
              <a:off x="4161960" y="1197000"/>
              <a:ext cx="1637280" cy="8661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Утрення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52"/>
            <p:cNvSpPr/>
            <p:nvPr/>
          </p:nvSpPr>
          <p:spPr>
            <a:xfrm>
              <a:off x="3821400" y="3306960"/>
              <a:ext cx="2318400" cy="122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Физкультурно-оздоровительн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720" y="692280"/>
            <a:ext cx="8646120" cy="5256000"/>
            <a:chOff x="630720" y="692280"/>
            <a:chExt cx="8646120" cy="5256000"/>
          </a:xfrm>
        </p:grpSpPr>
        <p:sp>
          <p:nvSpPr>
            <p:cNvPr id="101" name="_s1033"/>
            <p:cNvSpPr/>
            <p:nvPr/>
          </p:nvSpPr>
          <p:spPr>
            <a:xfrm>
              <a:off x="7399800" y="2200320"/>
              <a:ext cx="187704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тд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5239800" y="2200320"/>
              <a:ext cx="18730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кали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2937240" y="2200320"/>
              <a:ext cx="18712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30720" y="2200320"/>
              <a:ext cx="19454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игате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630720" y="3355560"/>
              <a:ext cx="1873080" cy="2592720"/>
            </a:xfrm>
            <a:custGeom>
              <a:avLst/>
              <a:gdLst>
                <a:gd name="textAreaLeft" fmla="*/ 91440 w 1873080"/>
                <a:gd name="textAreaRight" fmla="*/ 1781640 w 1873080"/>
                <a:gd name="textAreaTop" fmla="*/ 91440 h 2592720"/>
                <a:gd name="textAreaBottom" fmla="*/ 2501280 h 2592720"/>
              </a:gdLst>
              <a:ahLst/>
              <a:rect l="textAreaLeft" t="textAreaTop" r="textAreaRight" b="textAreaBottom"/>
              <a:pathLst>
                <a:path w="21600" h="29897">
                  <a:moveTo>
                    <a:pt x="3600" y="0"/>
                  </a:moveTo>
                  <a:arcTo wR="3600" hR="3600" stAng="16200000" swAng="-5400000"/>
                  <a:lnTo>
                    <a:pt x="0" y="26297"/>
                  </a:lnTo>
                  <a:arcTo wR="3600" hR="3600" stAng="10800000" swAng="-5400000"/>
                  <a:lnTo>
                    <a:pt x="18000" y="29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трення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Физкульту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я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Подвиж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изминут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ле сн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cc"/>
                  </a:solidFill>
                  <a:latin typeface="Arial"/>
                </a:rPr>
                <a:t>и т.д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007440" y="3355560"/>
              <a:ext cx="1801440" cy="2592720"/>
            </a:xfrm>
            <a:custGeom>
              <a:avLst/>
              <a:gdLst>
                <a:gd name="textAreaLeft" fmla="*/ 87840 w 1801440"/>
                <a:gd name="textAreaRight" fmla="*/ 1713600 w 1801440"/>
                <a:gd name="textAreaTop" fmla="*/ 87840 h 2592720"/>
                <a:gd name="textAreaBottom" fmla="*/ 2504880 h 2592720"/>
              </a:gdLst>
              <a:ahLst/>
              <a:rect l="textAreaLeft" t="textAreaTop" r="textAreaRight" b="textAreaBottom"/>
              <a:pathLst>
                <a:path w="21600" h="31086">
                  <a:moveTo>
                    <a:pt x="3600" y="0"/>
                  </a:moveTo>
                  <a:arcTo wR="3600" hR="3600" stAng="16200000" swAng="-5400000"/>
                  <a:lnTo>
                    <a:pt x="0" y="27486"/>
                  </a:lnTo>
                  <a:arcTo wR="3600" hR="3600" stAng="10800000" swAng="-5400000"/>
                  <a:lnTo>
                    <a:pt x="18000" y="310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Профилак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(лечебн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филак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цедуры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Адаптоген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Фитотерап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Ароматерап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313960" y="3355560"/>
              <a:ext cx="1762920" cy="2592720"/>
            </a:xfrm>
            <a:custGeom>
              <a:avLst/>
              <a:gdLst>
                <a:gd name="textAreaLeft" fmla="*/ 86040 w 1762920"/>
                <a:gd name="textAreaRight" fmla="*/ 1676880 w 1762920"/>
                <a:gd name="textAreaTop" fmla="*/ 86040 h 2592720"/>
                <a:gd name="textAreaBottom" fmla="*/ 2506680 h 2592720"/>
              </a:gdLst>
              <a:ahLst/>
              <a:rect l="textAreaLeft" t="textAreaTop" r="textAreaRight" b="textAreaBottom"/>
              <a:pathLst>
                <a:path w="21600" h="31765">
                  <a:moveTo>
                    <a:pt x="3600" y="0"/>
                  </a:moveTo>
                  <a:arcTo wR="3600" hR="3600" stAng="16200000" swAng="-5400000"/>
                  <a:lnTo>
                    <a:pt x="0" y="28165"/>
                  </a:lnTo>
                  <a:arcTo wR="3600" hR="3600" stAng="10800000" swAng="-5400000"/>
                  <a:lnTo>
                    <a:pt x="18000" y="31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В повседнев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жизни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Облегч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дежд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Сон с доступ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 и т.д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Специаль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организованны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лоск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ор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тварами т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7464240" y="3355560"/>
              <a:ext cx="1774440" cy="2592720"/>
            </a:xfrm>
            <a:custGeom>
              <a:avLst/>
              <a:gdLst>
                <a:gd name="textAreaLeft" fmla="*/ 86400 w 1774440"/>
                <a:gd name="textAreaRight" fmla="*/ 1688040 w 1774440"/>
                <a:gd name="textAreaTop" fmla="*/ 86400 h 2592720"/>
                <a:gd name="textAreaBottom" fmla="*/ 2506320 h 2592720"/>
              </a:gdLst>
              <a:ahLst/>
              <a:rect l="textAreaLeft" t="textAreaTop" r="textAreaRight" b="textAreaBottom"/>
              <a:pathLst>
                <a:path w="21600" h="31559">
                  <a:moveTo>
                    <a:pt x="3600" y="0"/>
                  </a:moveTo>
                  <a:arcTo wR="3600" hR="3600" stAng="16200000" swAng="-5400000"/>
                  <a:lnTo>
                    <a:pt x="0" y="27959"/>
                  </a:lnTo>
                  <a:arcTo wR="3600" hR="3600" stAng="10800000" swAng="-5400000"/>
                  <a:lnTo>
                    <a:pt x="18000" y="315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движные 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ни здоровь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пор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аздни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осуг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773280" y="692280"/>
              <a:ext cx="837432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Система воспитательно-образовательн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здоровительной и профилактической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96880" y="1916280"/>
            <a:ext cx="684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9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3760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3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37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4520" y="1700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3440" y="692280"/>
            <a:ext cx="9362160" cy="5256000"/>
            <a:chOff x="343440" y="692280"/>
            <a:chExt cx="9362160" cy="5256000"/>
          </a:xfrm>
        </p:grpSpPr>
        <p:sp>
          <p:nvSpPr>
            <p:cNvPr id="124" name="_s1033"/>
            <p:cNvSpPr/>
            <p:nvPr/>
          </p:nvSpPr>
          <p:spPr>
            <a:xfrm>
              <a:off x="7567200" y="2200320"/>
              <a:ext cx="192060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69600" y="2200320"/>
              <a:ext cx="346140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 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3"/>
            <p:cNvSpPr/>
            <p:nvPr/>
          </p:nvSpPr>
          <p:spPr>
            <a:xfrm>
              <a:off x="561240" y="2200320"/>
              <a:ext cx="1990800" cy="81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агог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дперсо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7864560" y="3355560"/>
              <a:ext cx="1841040" cy="143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Анкет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Дни здоров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бр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8"/>
            <p:cNvSpPr/>
            <p:nvPr/>
          </p:nvSpPr>
          <p:spPr>
            <a:xfrm>
              <a:off x="786600" y="692280"/>
              <a:ext cx="856908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Система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работы  по формирова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едставлений и навыков здорового образа жиз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у воспитанников  ДО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1379160" y="5153400"/>
              <a:ext cx="7462080" cy="79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Воспитанники ДО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43440" y="3355560"/>
              <a:ext cx="1880280" cy="142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грамм иннов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ланирование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й, бес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Оборудование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3369600" y="3718080"/>
              <a:ext cx="34592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Arial"/>
                </a:rPr>
                <a:t>ШКОЛА    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Консультировани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бесед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624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4520" y="2565360"/>
            <a:ext cx="71928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6520" y="2565360"/>
            <a:ext cx="79200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6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4520" y="407664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6160" y="4076640"/>
            <a:ext cx="1152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5360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6852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200160" y="642960"/>
            <a:ext cx="950580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истема контроля работы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сохранению и укреплению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30240" y="1776600"/>
            <a:ext cx="8011080" cy="4179600"/>
            <a:chOff x="930240" y="1776600"/>
            <a:chExt cx="8011080" cy="4179600"/>
          </a:xfrm>
        </p:grpSpPr>
        <p:sp>
          <p:nvSpPr>
            <p:cNvPr id="146" name="_s43061"/>
            <p:cNvSpPr/>
            <p:nvPr/>
          </p:nvSpPr>
          <p:spPr>
            <a:xfrm flipH="1" flipV="1">
              <a:off x="3335760" y="3268800"/>
              <a:ext cx="80244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3060"/>
            <p:cNvSpPr/>
            <p:nvPr/>
          </p:nvSpPr>
          <p:spPr>
            <a:xfrm>
              <a:off x="1519920" y="2390040"/>
              <a:ext cx="2041560" cy="1085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рритор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 с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3059"/>
            <p:cNvSpPr/>
            <p:nvPr/>
          </p:nvSpPr>
          <p:spPr>
            <a:xfrm flipH="1">
              <a:off x="2941560" y="4065120"/>
              <a:ext cx="998280" cy="123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3058"/>
            <p:cNvSpPr/>
            <p:nvPr/>
          </p:nvSpPr>
          <p:spPr>
            <a:xfrm>
              <a:off x="930240" y="3768120"/>
              <a:ext cx="2041560" cy="1085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3065"/>
            <p:cNvSpPr/>
            <p:nvPr/>
          </p:nvSpPr>
          <p:spPr>
            <a:xfrm flipH="1">
              <a:off x="4048200" y="4432680"/>
              <a:ext cx="44172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3064"/>
            <p:cNvSpPr/>
            <p:nvPr/>
          </p:nvSpPr>
          <p:spPr>
            <a:xfrm>
              <a:off x="2589840" y="4871160"/>
              <a:ext cx="2042280" cy="1085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 прове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монт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3063"/>
            <p:cNvSpPr/>
            <p:nvPr/>
          </p:nvSpPr>
          <p:spPr>
            <a:xfrm>
              <a:off x="5374800" y="4432680"/>
              <a:ext cx="44460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3062"/>
            <p:cNvSpPr/>
            <p:nvPr/>
          </p:nvSpPr>
          <p:spPr>
            <a:xfrm>
              <a:off x="5245560" y="4869360"/>
              <a:ext cx="2041560" cy="1085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3057"/>
            <p:cNvSpPr/>
            <p:nvPr/>
          </p:nvSpPr>
          <p:spPr>
            <a:xfrm>
              <a:off x="5925240" y="4066920"/>
              <a:ext cx="998280" cy="119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3056"/>
            <p:cNvSpPr/>
            <p:nvPr/>
          </p:nvSpPr>
          <p:spPr>
            <a:xfrm>
              <a:off x="6899760" y="3764880"/>
              <a:ext cx="2041560" cy="1085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43055"/>
            <p:cNvSpPr/>
            <p:nvPr/>
          </p:nvSpPr>
          <p:spPr>
            <a:xfrm flipV="1">
              <a:off x="5729400" y="3268800"/>
              <a:ext cx="79956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3054"/>
            <p:cNvSpPr/>
            <p:nvPr/>
          </p:nvSpPr>
          <p:spPr>
            <a:xfrm>
              <a:off x="6307200" y="2388240"/>
              <a:ext cx="2041560" cy="1085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чеб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3053"/>
            <p:cNvSpPr/>
            <p:nvPr/>
          </p:nvSpPr>
          <p:spPr>
            <a:xfrm flipV="1">
              <a:off x="4933080" y="2859840"/>
              <a:ext cx="0" cy="54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3052"/>
            <p:cNvSpPr/>
            <p:nvPr/>
          </p:nvSpPr>
          <p:spPr>
            <a:xfrm>
              <a:off x="3913560" y="1776600"/>
              <a:ext cx="2041560" cy="1085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мещения д/с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вяз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 пребыва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43051"/>
            <p:cNvSpPr/>
            <p:nvPr/>
          </p:nvSpPr>
          <p:spPr>
            <a:xfrm>
              <a:off x="3913560" y="3405240"/>
              <a:ext cx="2041560" cy="10850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Контролируем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70800" y="1548000"/>
            <a:ext cx="7509240" cy="5172480"/>
            <a:chOff x="1270800" y="1548000"/>
            <a:chExt cx="7509240" cy="5172480"/>
          </a:xfrm>
        </p:grpSpPr>
        <p:sp>
          <p:nvSpPr>
            <p:cNvPr id="165" name="_s54297"/>
            <p:cNvSpPr/>
            <p:nvPr/>
          </p:nvSpPr>
          <p:spPr>
            <a:xfrm flipH="1" flipV="1">
              <a:off x="3213360" y="3487320"/>
              <a:ext cx="91008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4298"/>
            <p:cNvSpPr/>
            <p:nvPr/>
          </p:nvSpPr>
          <p:spPr>
            <a:xfrm>
              <a:off x="1270800" y="2519640"/>
              <a:ext cx="2087280" cy="1293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ли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перерыв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54299"/>
            <p:cNvSpPr/>
            <p:nvPr/>
          </p:nvSpPr>
          <p:spPr>
            <a:xfrm flipH="1">
              <a:off x="3216960" y="4457520"/>
              <a:ext cx="90936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4300"/>
            <p:cNvSpPr/>
            <p:nvPr/>
          </p:nvSpPr>
          <p:spPr>
            <a:xfrm>
              <a:off x="1274400" y="4458960"/>
              <a:ext cx="2086920" cy="1293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54301"/>
            <p:cNvSpPr/>
            <p:nvPr/>
          </p:nvSpPr>
          <p:spPr>
            <a:xfrm>
              <a:off x="5027040" y="4777200"/>
              <a:ext cx="0" cy="651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54302"/>
            <p:cNvSpPr/>
            <p:nvPr/>
          </p:nvSpPr>
          <p:spPr>
            <a:xfrm>
              <a:off x="3985200" y="5427000"/>
              <a:ext cx="2086920" cy="1293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даг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иагно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54303"/>
            <p:cNvSpPr/>
            <p:nvPr/>
          </p:nvSpPr>
          <p:spPr>
            <a:xfrm>
              <a:off x="5924880" y="4455360"/>
              <a:ext cx="909360" cy="324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54304"/>
            <p:cNvSpPr/>
            <p:nvPr/>
          </p:nvSpPr>
          <p:spPr>
            <a:xfrm>
              <a:off x="6693120" y="4457520"/>
              <a:ext cx="2086920" cy="1293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Налич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доровьесберега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 ходе 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54305"/>
            <p:cNvSpPr/>
            <p:nvPr/>
          </p:nvSpPr>
          <p:spPr>
            <a:xfrm flipV="1">
              <a:off x="5924880" y="3485880"/>
              <a:ext cx="90684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4306"/>
            <p:cNvSpPr/>
            <p:nvPr/>
          </p:nvSpPr>
          <p:spPr>
            <a:xfrm>
              <a:off x="6693120" y="2517480"/>
              <a:ext cx="2086920" cy="1293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е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4307"/>
            <p:cNvSpPr/>
            <p:nvPr/>
          </p:nvSpPr>
          <p:spPr>
            <a:xfrm flipV="1">
              <a:off x="5024520" y="2839320"/>
              <a:ext cx="0" cy="6490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4308"/>
            <p:cNvSpPr/>
            <p:nvPr/>
          </p:nvSpPr>
          <p:spPr>
            <a:xfrm>
              <a:off x="3982320" y="1548000"/>
              <a:ext cx="2086920" cy="1293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разователь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4309"/>
            <p:cNvSpPr/>
            <p:nvPr/>
          </p:nvSpPr>
          <p:spPr>
            <a:xfrm>
              <a:off x="3982320" y="3489120"/>
              <a:ext cx="2086920" cy="1293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здорови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2080" y="1675080"/>
            <a:ext cx="6648120" cy="4513320"/>
            <a:chOff x="1702080" y="1675080"/>
            <a:chExt cx="6648120" cy="4513320"/>
          </a:xfrm>
        </p:grpSpPr>
        <p:sp>
          <p:nvSpPr>
            <p:cNvPr id="182" name="_s55319"/>
            <p:cNvSpPr/>
            <p:nvPr/>
          </p:nvSpPr>
          <p:spPr>
            <a:xfrm flipH="1" flipV="1">
              <a:off x="3422160" y="3367080"/>
              <a:ext cx="80568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5320"/>
            <p:cNvSpPr/>
            <p:nvPr/>
          </p:nvSpPr>
          <p:spPr>
            <a:xfrm>
              <a:off x="1702080" y="2522880"/>
              <a:ext cx="184788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ещае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ьми д/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5321"/>
            <p:cNvSpPr/>
            <p:nvPr/>
          </p:nvSpPr>
          <p:spPr>
            <a:xfrm flipH="1">
              <a:off x="3425040" y="4213800"/>
              <a:ext cx="80496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5322"/>
            <p:cNvSpPr/>
            <p:nvPr/>
          </p:nvSpPr>
          <p:spPr>
            <a:xfrm>
              <a:off x="1705320" y="42152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ффекти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5323"/>
            <p:cNvSpPr/>
            <p:nvPr/>
          </p:nvSpPr>
          <p:spPr>
            <a:xfrm>
              <a:off x="5027760" y="4492800"/>
              <a:ext cx="0" cy="5688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5324"/>
            <p:cNvSpPr/>
            <p:nvPr/>
          </p:nvSpPr>
          <p:spPr>
            <a:xfrm>
              <a:off x="4105080" y="505980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«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5325"/>
            <p:cNvSpPr/>
            <p:nvPr/>
          </p:nvSpPr>
          <p:spPr>
            <a:xfrm>
              <a:off x="5822640" y="4212000"/>
              <a:ext cx="804960" cy="282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5326"/>
            <p:cNvSpPr/>
            <p:nvPr/>
          </p:nvSpPr>
          <p:spPr>
            <a:xfrm>
              <a:off x="6502680" y="4213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филактическ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д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5327"/>
            <p:cNvSpPr/>
            <p:nvPr/>
          </p:nvSpPr>
          <p:spPr>
            <a:xfrm flipV="1">
              <a:off x="5822640" y="3365640"/>
              <a:ext cx="80280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5328"/>
            <p:cNvSpPr/>
            <p:nvPr/>
          </p:nvSpPr>
          <p:spPr>
            <a:xfrm>
              <a:off x="6502680" y="2521080"/>
              <a:ext cx="1847520" cy="112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болеваем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5329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5330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5331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детского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199" name="_s56343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6344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6345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6346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анитар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тив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пидем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6347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6348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удо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6349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6350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6351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6352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6353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63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ду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6355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6356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щи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6357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6358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ци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6359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6:19:39Z</dcterms:created>
  <dc:creator>11</dc:creator>
  <dc:description/>
  <dc:language>en-US</dc:language>
  <cp:lastModifiedBy>777</cp:lastModifiedBy>
  <dcterms:modified xsi:type="dcterms:W3CDTF">2012-04-13T09:04:08Z</dcterms:modified>
  <cp:revision>401</cp:revision>
  <dc:subject/>
  <dc:title>Слайд 1</dc:title>
</cp:coreProperties>
</file>