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8054-7913-45DA-8071-06714BC26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8779-47F4-4C51-A8F8-E916F54E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E1E6-02DC-4642-8BCE-AD720A5DC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87AE-7219-4780-BC64-71B28EC2F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4E3B-A240-4DEF-9118-02C067B6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E37E-3E7B-45F8-9D29-369DD4F2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C887-E5E5-47C5-A1C6-2058023E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E884-1049-42BA-BF19-B1B80494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5D42-56AA-4579-A17A-857A6F05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FDC2-CABD-4ADB-91DE-705ED0EB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F6C9-BAF4-40C1-800F-19586719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9C6B-D04F-42CD-8486-4ED33DBB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1EED-608E-410E-8156-365D00FFD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9;&#1072;&#1084;&#1086;&#1083;&#1105;&#1090;.wav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5181480"/>
            <a:ext cx="2057400" cy="1476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880" y="380880"/>
            <a:ext cx="2590920" cy="129564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2 +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81080"/>
            <a:ext cx="2590920" cy="129564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3 +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00400" y="228600"/>
            <a:ext cx="259092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5 +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1905120"/>
            <a:ext cx="259092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9 -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3429000"/>
            <a:ext cx="259056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0+3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4038480"/>
            <a:ext cx="2590920" cy="129564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2 +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3657600"/>
            <a:ext cx="259092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7-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5257800"/>
            <a:ext cx="259056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1 -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228600"/>
            <a:ext cx="259056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7 -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324480" y="1752480"/>
            <a:ext cx="2590920" cy="129564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8 +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75 0.07014 L 0.57083 -0.28541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917 -0.29652 L 0.04583 -0.29652 E">
                                      <p:cBhvr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5 -0.29652 L 0.55417 -0.70763 E">
                                      <p:cBhvr>
                                        <p:cTn id="14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417 -0.70763 L 0.05417 -0.68541 E">
                                      <p:cBhvr>
                                        <p:cTn id="18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-0.6743 L 0.2375 -0.51875 E">
                                      <p:cBhvr>
                                        <p:cTn id="22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583 -0.46319 L 0.5625 -0.04097 E">
                                      <p:cBhvr>
                                        <p:cTn id="2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625 -0.04097 L 0.07083 -0.48541 E">
                                      <p:cBhvr>
                                        <p:cTn id="30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4 -0.48541 L 0.55417 -0.50764 E">
                                      <p:cBhvr>
                                        <p:cTn id="34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4583 -0.55208 L 0.2875 -0.72986 E">
                                      <p:cBhvr>
                                        <p:cTn id="38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084 -0.68542 L 0.52917 -0.29653 E">
                                      <p:cBhvr>
                                        <p:cTn id="42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7:51:38Z</dcterms:created>
  <dc:creator>Шаповаловы</dc:creator>
  <dc:description/>
  <dc:language>en-US</dc:language>
  <cp:lastModifiedBy>ник</cp:lastModifiedBy>
  <dcterms:modified xsi:type="dcterms:W3CDTF">2011-04-06T18:06:5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