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7CF43-3137-430B-B8D1-C552E5D77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8BA4E-A61E-498E-B66B-E0B02308F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0E677-6664-4080-BDF2-F5170D35C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E217F-BE4F-4A9F-B4F0-0ED74CAAC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32727-30BC-4360-B7AE-B1AB48C28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502A9-0B17-4572-A054-53E95E4F3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B358F-BC39-4F2E-9A53-1BF8CA5A9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6B47A-7429-46FD-B11E-0BFEF74A8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53709-8C36-4AD0-AD58-4AC579616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DB508-60F9-4328-A631-9D9D76B5D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CD690-F04B-4CB0-9241-8E0878DD3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20D2F-D215-42FC-B26A-ABABF7370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427C4-2597-4DE3-8E16-B738C72917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&#1089;&#1072;&#1084;&#1086;&#1083;&#1105;&#1090;.wav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14400" y="5181480"/>
            <a:ext cx="2057400" cy="14763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80880" y="380880"/>
            <a:ext cx="2590920" cy="1295640"/>
          </a:xfrm>
          <a:prstGeom prst="cloudCallout">
            <a:avLst>
              <a:gd name="adj1" fmla="val -25675"/>
              <a:gd name="adj2" fmla="val 3369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2 + 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81080"/>
            <a:ext cx="2590920" cy="1295640"/>
          </a:xfrm>
          <a:prstGeom prst="cloudCallout">
            <a:avLst>
              <a:gd name="adj1" fmla="val -25675"/>
              <a:gd name="adj2" fmla="val 3369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3 +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00400" y="228600"/>
            <a:ext cx="2590920" cy="1295280"/>
          </a:xfrm>
          <a:prstGeom prst="cloudCallout">
            <a:avLst>
              <a:gd name="adj1" fmla="val -25675"/>
              <a:gd name="adj2" fmla="val 3369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5 +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657600" y="1905120"/>
            <a:ext cx="2590920" cy="1295280"/>
          </a:xfrm>
          <a:prstGeom prst="cloudCallout">
            <a:avLst>
              <a:gd name="adj1" fmla="val -25675"/>
              <a:gd name="adj2" fmla="val 3369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9 - 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3429000"/>
            <a:ext cx="2590560" cy="1295280"/>
          </a:xfrm>
          <a:prstGeom prst="cloudCallout">
            <a:avLst>
              <a:gd name="adj1" fmla="val -25675"/>
              <a:gd name="adj2" fmla="val 3369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50+3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4038480"/>
            <a:ext cx="2590920" cy="1295640"/>
          </a:xfrm>
          <a:prstGeom prst="cloudCallout">
            <a:avLst>
              <a:gd name="adj1" fmla="val -25675"/>
              <a:gd name="adj2" fmla="val 3369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2 + 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3657600"/>
            <a:ext cx="2590920" cy="1295280"/>
          </a:xfrm>
          <a:prstGeom prst="cloudCallout">
            <a:avLst>
              <a:gd name="adj1" fmla="val -25675"/>
              <a:gd name="adj2" fmla="val 3369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87-4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248520" y="5257800"/>
            <a:ext cx="2590560" cy="1295280"/>
          </a:xfrm>
          <a:prstGeom prst="cloudCallout">
            <a:avLst>
              <a:gd name="adj1" fmla="val -25675"/>
              <a:gd name="adj2" fmla="val 3369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1 - 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248520" y="228600"/>
            <a:ext cx="2590560" cy="1295280"/>
          </a:xfrm>
          <a:prstGeom prst="cloudCallout">
            <a:avLst>
              <a:gd name="adj1" fmla="val -25675"/>
              <a:gd name="adj2" fmla="val 3369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7 -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324480" y="1752480"/>
            <a:ext cx="2590920" cy="1295640"/>
          </a:xfrm>
          <a:prstGeom prst="cloudCallout">
            <a:avLst>
              <a:gd name="adj1" fmla="val -25675"/>
              <a:gd name="adj2" fmla="val 3369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8 + 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375 0.07014 L 0.57083 -0.28541 E">
                                      <p:cBhvr>
                                        <p:cTn id="6" dur="2000" fill="hold"/>
                                        <p:tgtEl>
                                          <p:spTgt spid="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2917 -0.29652 L 0.04583 -0.29652 E">
                                      <p:cBhvr>
                                        <p:cTn id="10" dur="2000" fill="hold"/>
                                        <p:tgtEl>
                                          <p:spTgt spid="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25 -0.29652 L 0.55417 -0.70763 E">
                                      <p:cBhvr>
                                        <p:cTn id="14" dur="2000" fill="hold"/>
                                        <p:tgtEl>
                                          <p:spTgt spid="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5417 -0.70763 L 0.05417 -0.68541 E">
                                      <p:cBhvr>
                                        <p:cTn id="18" dur="2000" fill="hold"/>
                                        <p:tgtEl>
                                          <p:spTgt spid="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17 -0.6743 L 0.2375 -0.51875 E">
                                      <p:cBhvr>
                                        <p:cTn id="22" dur="2000" fill="hold"/>
                                        <p:tgtEl>
                                          <p:spTgt spid="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4583 -0.46319 L 0.5625 -0.04097 E">
                                      <p:cBhvr>
                                        <p:cTn id="26" dur="2000" fill="hold"/>
                                        <p:tgtEl>
                                          <p:spTgt spid="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625 -0.04097 L 0.07083 -0.48541 E">
                                      <p:cBhvr>
                                        <p:cTn id="30" dur="2000" fill="hold"/>
                                        <p:tgtEl>
                                          <p:spTgt spid="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7084 -0.48541 L 0.55417 -0.50764 E">
                                      <p:cBhvr>
                                        <p:cTn id="34" dur="2000" fill="hold"/>
                                        <p:tgtEl>
                                          <p:spTgt spid="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4583 -0.55208 L 0.2875 -0.72986 E">
                                      <p:cBhvr>
                                        <p:cTn id="38" dur="2000" fill="hold"/>
                                        <p:tgtEl>
                                          <p:spTgt spid="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2084 -0.68542 L 0.52917 -0.29653 E">
                                      <p:cBhvr>
                                        <p:cTn id="42" dur="2000" fill="hold"/>
                                        <p:tgtEl>
                                          <p:spTgt spid="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6T17:51:38Z</dcterms:created>
  <dc:creator>Шаповаловы</dc:creator>
  <dc:description/>
  <dc:language>en-US</dc:language>
  <cp:lastModifiedBy>ник</cp:lastModifiedBy>
  <dcterms:modified xsi:type="dcterms:W3CDTF">2011-04-06T18:06:54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