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FB0-E0A9-4FAD-89F6-23CE8526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44C-655D-44FF-AA1C-2CB54BF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9F7-DA4D-4500-9E5A-3CDF52ED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11B-2A8B-459A-A937-DFB1B97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668-4EBA-4C36-A4E1-96F9934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A00-9CFA-43CD-9E51-A5316A7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D48-1304-423B-AE8E-DC38CCCF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144-7410-4ED8-9475-0671A68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9B6-6A16-4998-858D-8826CBC5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365-413B-40CB-BC5E-E37825D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F5A-7161-49D4-BB88-005D88C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CE0-7FAC-46D6-AD59-4B5569F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F71-8C35-44FF-84BC-B35695E9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Устный счё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556272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 txBox="1"/>
          <p:nvPr/>
        </p:nvSpPr>
        <p:spPr>
          <a:xfrm>
            <a:off x="601992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5638680" y="480060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152280"/>
          <a:ext cx="8686440" cy="6400440"/>
        </p:xfrm>
        <a:graphic>
          <a:graphicData uri="http://schemas.openxmlformats.org/drawingml/2006/table">
            <a:tbl>
              <a:tblPr/>
              <a:tblGrid>
                <a:gridCol w="4460760"/>
                <a:gridCol w="422568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емо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16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5867280" y="47242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33:56Z</dcterms:created>
  <dc:creator>Шаповаловы</dc:creator>
  <dc:description/>
  <dc:language>en-US</dc:language>
  <cp:lastModifiedBy>ник</cp:lastModifiedBy>
  <dcterms:modified xsi:type="dcterms:W3CDTF">2011-11-21T12:50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