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166-1F71-453B-8069-B17E1D3C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13D-B93E-41EE-B11D-F9899251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068-B805-428D-B2F1-60E464C2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2EE-58D6-4672-9AEA-FE7C3887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3BF-00BE-43BA-8857-E6510CC7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134-AB36-4949-8637-6ACF6813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E68-AC9D-47DC-A4D9-FD391405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DE2-EC6D-4B71-9DF9-1830E86B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94D-67DD-4CAD-80E2-71AE5F6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088-B44E-46FA-958F-3BEC9D06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270-0FED-41BC-9266-F5682378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49C-909F-4C68-8771-1039F9E0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B696-D341-4F30-B169-C1BE2C53E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2438280"/>
            <a:ext cx="7772400" cy="32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гра "Молчанка"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4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8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9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0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1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2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4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5"/>
          <p:cNvSpPr txBox="1"/>
          <p:nvPr/>
        </p:nvSpPr>
        <p:spPr>
          <a:xfrm>
            <a:off x="3581280" y="457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7"/>
          <p:cNvSpPr txBox="1"/>
          <p:nvPr/>
        </p:nvSpPr>
        <p:spPr>
          <a:xfrm>
            <a:off x="6400800" y="33526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2971800" y="51055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1676520" y="1523880"/>
            <a:ext cx="1447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2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086600" y="1523880"/>
            <a:ext cx="1447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5"/>
          <p:cNvSpPr txBox="1"/>
          <p:nvPr/>
        </p:nvSpPr>
        <p:spPr>
          <a:xfrm>
            <a:off x="7391520" y="35812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6477120" y="525780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914400" y="54100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14479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581280" y="53352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715000" y="129528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6477120" y="32767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952880" y="4952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743200" y="502920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37160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1905120" y="15238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0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25"/>
          <p:cNvSpPr txBox="1"/>
          <p:nvPr/>
        </p:nvSpPr>
        <p:spPr>
          <a:xfrm>
            <a:off x="5105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25"/>
          <p:cNvSpPr txBox="1"/>
          <p:nvPr/>
        </p:nvSpPr>
        <p:spPr>
          <a:xfrm>
            <a:off x="7391520" y="1676520"/>
            <a:ext cx="1523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7467480" y="3886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6553080" y="54100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25"/>
          <p:cNvSpPr txBox="1"/>
          <p:nvPr/>
        </p:nvSpPr>
        <p:spPr>
          <a:xfrm>
            <a:off x="609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0" y="22096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685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1828800" y="1371600"/>
            <a:ext cx="1066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7924680" y="388620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4952880" y="495288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1600200" y="1371600"/>
            <a:ext cx="1676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7543800" y="3733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43000" y="2666880"/>
            <a:ext cx="7086600" cy="289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627200"/>
            <a:ext cx="875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4:58Z</dcterms:created>
  <dc:creator>Шаповаловы</dc:creator>
  <dc:description/>
  <dc:language>en-US</dc:language>
  <cp:lastModifiedBy>Я</cp:lastModifiedBy>
  <dcterms:modified xsi:type="dcterms:W3CDTF">2012-02-24T14:49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