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E70-6556-4363-AB66-11B81E8A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F12-4951-4524-8DBA-5D404BB7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A2C-181A-4962-A423-B032936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266-6CF4-4F13-B23B-B0A92E89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FC2-1C30-4FFF-80C2-1BA09AC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C86-0877-4A9A-BFB3-A8353C81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4D5-ABCC-4C1A-AFFB-4A7E777D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15C-957D-418F-A7CE-54CCD85D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DF3-3A27-4586-A9D0-B1C33AE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44C-E921-4733-9A9D-E2901C0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A84-E2C3-4FC9-B76E-56DF023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9CD-5296-4D9A-89B7-072A6EF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53F-F856-4F48-8641-D70D3BB0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9;&#1072;&#1084;&#1086;&#1083;&#1105;&#1090;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181480"/>
            <a:ext cx="2057400" cy="14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28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90512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4290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+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038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657600"/>
            <a:ext cx="259092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7-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2578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228600"/>
            <a:ext cx="2590560" cy="129528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1752480"/>
            <a:ext cx="2590920" cy="1295640"/>
          </a:xfrm>
          <a:prstGeom prst="cloudCallout">
            <a:avLst>
              <a:gd name="adj1" fmla="val -25675"/>
              <a:gd name="adj2" fmla="val 3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 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5 0.07014 L 0.57083 -0.2854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17 -0.29652 L 0.04583 -0.29652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29652 L 0.55417 -0.70763 E">
                                      <p:cBhvr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417 -0.70763 L 0.05417 -0.68541 E"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6743 L 0.2375 -0.51875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583 -0.46319 L 0.5625 -0.04097 E">
                                      <p:cBhvr>
                                        <p:cTn id="2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25 -0.04097 L 0.07083 -0.48541 E">
                                      <p:cBhvr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48541 L 0.55417 -0.50764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583 -0.55208 L 0.2875 -0.72986 E">
                                      <p:cBhvr>
                                        <p:cTn id="38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084 -0.68542 L 0.52917 -0.29653 E">
                                      <p:cBhvr>
                                        <p:cTn id="4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51:38Z</dcterms:created>
  <dc:creator>Шаповаловы</dc:creator>
  <dc:description/>
  <dc:language>en-US</dc:language>
  <cp:lastModifiedBy>ник</cp:lastModifiedBy>
  <dcterms:modified xsi:type="dcterms:W3CDTF">2011-04-06T18:06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