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F733-5EEA-44F4-B85F-5CDF853C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18E-CF4A-46BB-BFC3-BB9AC865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2315-025C-4814-8F72-8B62A592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8E5-C9B5-4F28-A96E-1E502863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6A9-29D4-4EAF-8A6B-EC2C9B8C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D340-F405-4529-9934-C860D596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007-7DC1-4EEC-920F-19A4C897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B12-4352-47E7-A069-AEC1E9C0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E86-9A68-4A6B-848E-553F4828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C6C-827D-42C4-A23B-B75FE7D9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74A-6759-4B7E-AFA6-B3471140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AD4-DC91-46DA-8C75-473F2227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F8B7-080F-4739-BD0B-5B64288BC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Устный счё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556272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 txBox="1"/>
          <p:nvPr/>
        </p:nvSpPr>
        <p:spPr>
          <a:xfrm>
            <a:off x="601992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 txBox="1"/>
          <p:nvPr/>
        </p:nvSpPr>
        <p:spPr>
          <a:xfrm>
            <a:off x="563868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33:56Z</dcterms:created>
  <dc:creator>Шаповаловы</dc:creator>
  <dc:description/>
  <dc:language>en-US</dc:language>
  <cp:lastModifiedBy>ник</cp:lastModifiedBy>
  <dcterms:modified xsi:type="dcterms:W3CDTF">2011-11-21T12:50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