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4EE-AA88-4E39-A607-140E6151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8BA-D7FE-4906-9CAB-38C33EE2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337-5ECD-4491-B9C9-34C68717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B577-176A-4ABA-A5FE-9D78543F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D574-7E44-4361-AD65-C2A3C9F6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847F-6ECA-453C-9245-2944BE84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4402-E102-401C-B36D-479F7717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F577-23C2-439C-8618-7132529F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57EE-7572-4747-8C53-254BB79D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141B-4B3E-4D2A-A0FF-A6DEB3C1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C853-2D05-496C-9BEC-EBC7D736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9544-D86C-4531-B17E-84476ADA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9CE9-2939-45F7-9A71-E92DA46B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D4AD-474B-40D3-B761-0C21C2C0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AB63-FB15-4006-AC35-147DD286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B382-D2CB-42B1-ABFB-68C72C9C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95FD-F8D0-4C82-B734-84EF982E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F2AFB-C951-4631-8A61-A7182BA1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DFAEE-52D9-4DF7-BBA2-DF5E0932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6BB0D-7C0D-467F-AA16-7719606F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83D3E-ED4F-418E-9582-C7F2C61A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D92DA-37E1-4786-B438-26BDF3FB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29E9-75DE-4C37-B78A-FD1BEC84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45704-551C-4777-B6D8-888D32E0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8DEFF6-AC56-464B-B0AF-96B3B34D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B53DB-6CBD-45B0-B092-146F3CFC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D5B97-3172-428D-BBA2-B25DC3F3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44FA8-F8F6-4E21-8611-EFA0DF4C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FC8FF-4AA9-431D-AF3F-D24ED5CA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C9212-07E6-4CC3-A775-F83E03C8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D6A02-3902-4099-9654-A9149229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67D78-052F-4E76-8465-CDD913D9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F7A40-BE20-4B00-A247-0A464FD1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5AEE-FF04-40F7-86CF-CDB67D3C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74E8F-2AAC-4350-9776-3472AB81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5C217-E7EC-42AE-8847-6D8B0B60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917AE-2D62-4EFA-8B0F-8D7B7140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4B12B-6133-4F8B-85F7-1E51275D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06EC6-ACD1-42CD-965E-F8B58C35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225DE-6F48-44BA-8E9F-0DC3F99E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F57D1-F9D3-4E21-9E60-160BE1DB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DC568-8100-4223-B220-954A06D9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BDC6F-E7ED-4200-9F0D-7FF42F97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AEF4B4-ADF5-44AC-BC06-8B912236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897C-0EA7-44F2-BD16-43712A97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8E19F3-D408-4B47-9846-30A1911F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F20263-80DA-43CE-B700-1D5010FA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303B17-357E-46B1-9E54-61D0AFED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463BF-602E-47E8-B21D-1F31B47B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B2D2CC-FFBE-4DEB-89D4-660DEFBB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C17A97-CC70-4E98-B097-343F7E93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80D76F-0DB6-4008-8C7E-FF56BC1B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E5A934-434B-4375-B050-A287BCE6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6D3AAE-F051-4881-94CE-4C9A8C26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34454-77C0-4D9A-AC65-98777793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6BB7-ECEA-4FD7-A7CE-9263179C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ADB62D-EEBA-488B-8C3D-9410B7DC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790F0B-E097-4A63-B453-1038B2B1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DF10C2-174C-4D15-83E5-10B91F6A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CC1F67-0E89-4DC3-9F32-418A5DA4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0FB311-E014-407D-88E7-28E5BF6C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B321F4-7E5E-41AE-91BA-94BB78BF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D2226D-0E1F-480A-AB2B-B0E88085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6677AB-F7B0-4759-A090-71F22237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7D2D59-9C36-48FE-BF97-8189A7D5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D36F50-278C-46AE-A0D6-10419A2D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60B-D695-4341-8014-16C1183D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4F6AD4-8477-4EC0-A0AB-D8CE6E9B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844222-05D5-420B-B6E7-19BF7A8C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E88F90-7C7B-4E20-AD18-86C187A2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127F61-438A-4E69-94B5-E15AE410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E3FF72-399F-4B08-A1AC-1530C7C8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5FF3F9-CEB2-4F63-BCEA-7F30BC1A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25D2F0-F3F2-48FF-B613-F64C39D3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9B283A-7A66-4886-B3CB-A562BE58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C3D710-A962-4301-8CFB-9A4AD3D7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C2A3CB-2C0E-4F15-9223-A5B1FB66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9AC7-7079-4D19-85BE-C762D3DC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6ED152-6CDC-4F85-880A-F35B1B1F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7A15A0-9129-409B-A7CD-524793B5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3BB965-F0CE-4F9B-B38C-6850936E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21E81B-5686-4D9F-AAAD-43D76499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B52C0D-0F75-4266-BC1A-48FDFE85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130D-3AA1-4483-88DB-EE3613BB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9F7E-AD13-4D64-A769-7A1E71D1D4A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6F9F-8656-471F-9745-BF98B480633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FF8A-FAC4-4A97-88B5-2DEFDC7786A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3ded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3ded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ded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ded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E4B3-0994-4F28-8364-0875CB09BBF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A72D-312B-4E90-A34B-69E09BCE356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C356-2194-48E9-9F88-F1B2D87CA26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36B5-9912-42EA-A004-CB0F28BCDB3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1974960" y="360360"/>
            <a:ext cx="6894360" cy="3125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" descr=""/>
          <p:cNvPicPr/>
          <p:nvPr/>
        </p:nvPicPr>
        <p:blipFill>
          <a:blip r:embed="rId2"/>
          <a:stretch/>
        </p:blipFill>
        <p:spPr>
          <a:xfrm>
            <a:off x="3203640" y="2997360"/>
            <a:ext cx="3786120" cy="32954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3"/>
          <p:cNvSpPr/>
          <p:nvPr/>
        </p:nvSpPr>
        <p:spPr>
          <a:xfrm>
            <a:off x="6156360" y="5950080"/>
            <a:ext cx="2987640" cy="76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Блейхер Жанна Андре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старший воспит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МБДОУ «ЦРР – детский сад №41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ТЕРМИН «ПЛАН» ТРАКТУЕТСЯ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система взаимосвязанных, направленных на достижение единой цели плановых заданий, определяющих порядок, сроки и последовательность осуществления программ, работ или отдельных мероприятий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особ кратко (или полно) зафиксировать целевые ориентиры, познавательные задачи, программное содержание, последовательность организации и проведения образовательной деятельности с деть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О ВИДАМ ПЛАНЫ ДЕЛЯТСЯ </a:t>
            </a:r>
            <a:endParaRPr b="0" lang="en-US" sz="32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8400" y="100008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Прямоугольник 3"/>
          <p:cNvSpPr/>
          <p:nvPr/>
        </p:nvSpPr>
        <p:spPr>
          <a:xfrm>
            <a:off x="2143080" y="12859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232800" y="135720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спекти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2143080" y="26431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6"/>
          <p:cNvSpPr/>
          <p:nvPr/>
        </p:nvSpPr>
        <p:spPr>
          <a:xfrm>
            <a:off x="2214720" y="4214880"/>
            <a:ext cx="421452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аленд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0"/>
          <p:cNvSpPr/>
          <p:nvPr/>
        </p:nvSpPr>
        <p:spPr>
          <a:xfrm flipV="1">
            <a:off x="1071720" y="785520"/>
            <a:ext cx="0" cy="407196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Прямая со стрелкой 16"/>
          <p:cNvCxnSpPr/>
          <p:nvPr/>
        </p:nvCxnSpPr>
        <p:spPr>
          <a:xfrm>
            <a:off x="1071360" y="1714680"/>
            <a:ext cx="85788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6" name="Прямая со стрелкой 18"/>
          <p:cNvCxnSpPr/>
          <p:nvPr/>
        </p:nvCxnSpPr>
        <p:spPr>
          <a:xfrm>
            <a:off x="1071720" y="2999880"/>
            <a:ext cx="78624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7" name="Прямая со стрелкой 20"/>
          <p:cNvCxnSpPr/>
          <p:nvPr/>
        </p:nvCxnSpPr>
        <p:spPr>
          <a:xfrm>
            <a:off x="1071720" y="4857840"/>
            <a:ext cx="78624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88" name="Прямая соединительная линия 22"/>
          <p:cNvSpPr/>
          <p:nvPr/>
        </p:nvSpPr>
        <p:spPr>
          <a:xfrm flipH="1" flipV="1">
            <a:off x="1071360" y="785880"/>
            <a:ext cx="57132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25"/>
          <p:cNvSpPr/>
          <p:nvPr/>
        </p:nvSpPr>
        <p:spPr>
          <a:xfrm flipH="1">
            <a:off x="7429680" y="785880"/>
            <a:ext cx="1440" cy="407340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28"/>
          <p:cNvSpPr/>
          <p:nvPr/>
        </p:nvSpPr>
        <p:spPr>
          <a:xfrm flipH="1" flipV="1">
            <a:off x="6858000" y="785880"/>
            <a:ext cx="57168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Прямая со стрелкой 32"/>
          <p:cNvCxnSpPr/>
          <p:nvPr/>
        </p:nvCxnSpPr>
        <p:spPr>
          <a:xfrm flipH="1" flipV="1">
            <a:off x="6714360" y="171432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2" name="Прямая со стрелкой 37"/>
          <p:cNvCxnSpPr/>
          <p:nvPr/>
        </p:nvCxnSpPr>
        <p:spPr>
          <a:xfrm flipH="1" flipV="1">
            <a:off x="6714360" y="2999520"/>
            <a:ext cx="71532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3" name="Прямая со стрелкой 43"/>
          <p:cNvCxnSpPr/>
          <p:nvPr/>
        </p:nvCxnSpPr>
        <p:spPr>
          <a:xfrm flipH="1" flipV="1">
            <a:off x="6714360" y="485748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Century Schoolbook"/>
              </a:rPr>
              <a:t>СЛАБЫЕ СТОРОНЫ ПЕРСПЕКТИВНОГО ПЛАНИРОВАНИЯ</a:t>
            </a: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: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ерспективное планирование, в отсутствии календарного (комплексно – тематического) плана, не раскрывает содержания деятельности, методические приемы, не конкретизирует дидактическое обеспечение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е всегда позволяет равномерно распределить деятельность по ее видам в течение определенного отрезка времен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збежать прецедента дополнительной нагрузки на детей или ее необоснованного отсутстви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трудняет осуществление методического контроля над выполнением планируемых мероприят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КОМПЛЕКСНО – ТЕМАТИЧЕСКИЙ ПЛАН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999720"/>
            <a:ext cx="7467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тельным содержанием комплексно-тематического пла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собы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зволяющие дошкольнику успешно «ориентироваться в четырех мирах действительности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живой и неживой прир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творном мир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общественных (социальных отношений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собственной внутренней жизнедеятельности» (Концепция дошкольного воспитания)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разработке комплексно – тематического плана педагогом выделяются основные «узловые» темы. Темы занятий «многослойны», т. е. они повторяются с определенным усложнением в каждой возрастной группе. Возвращение к теме в иных педагогических условиях, на другом содержании, возрастном уровне развития помогают ребенку успешно освоить информацию, овладеть новыми способами общения и познания окружающего мира, формирует компетентность как особую «практическую умелость, опыт» при решении несложных жизненных ситуац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 – тематический план может составляться воспитателем при участии специалистов ДОУ, которые на своих занятиях творчески обогащают и дополняют возможности детей, добиваясь при интеграции высоких образовательных эффекто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6840" y="713880"/>
            <a:ext cx="7467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тематического содержания, определение форм работы по его реализации и интеграции осуществляется педагогом на месяц. Основным принципом при подборе содержания являются образовательные области и решение их основных задач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23232"/>
                </a:solidFill>
                <a:latin typeface="Century Schoolbook"/>
              </a:rPr>
              <a:t>СОДЕРЖАНИЕ КАЛЕНДАРНОГО ПЛАНА СТРУКТУРИРУЕТСЯ ПО БЛОКАМ И ПРЕДСТАВЛЯЕТСЯ В ВИДЕ СХЕМЫ.</a:t>
            </a:r>
            <a:endParaRPr b="0" lang="en-US" sz="25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бразовательный бло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(сетка занят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овместной деятельности взрослого и дет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амостоятельной деятельности дете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79297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КАЛЕНДАРНОЕ  ПЛАНИРОВАНИЕ  ВОСПИТАТЕЛЬНО-ОБРАЗОВАТЕЛЬНОЙ РАБОТЫ</a:t>
            </a:r>
            <a:br>
              <a:rPr sz="1200"/>
            </a:b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       НА ПЕРИОД:__________________________________________, ГРУППА:_____________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ТЕМА:__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ЦЕЛЬ: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ИТОГОВОЕ</a:t>
            </a:r>
            <a:r>
              <a:rPr b="0" lang="en-US" sz="1200" spc="-1" strike="noStrike">
                <a:solidFill>
                  <a:srgbClr val="323232"/>
                </a:solidFill>
                <a:latin typeface="Century Schoolbook"/>
              </a:rPr>
              <a:t>     </a:t>
            </a: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МЕРОПРИЯТИЕ:________________________________________________ДАТА:____</a:t>
            </a:r>
            <a:br>
              <a:rPr sz="1200"/>
            </a:br>
            <a:endParaRPr b="0" lang="en-US" sz="1200" spc="-1" strike="noStrike">
              <a:solidFill>
                <a:srgbClr val="323232"/>
              </a:solidFill>
              <a:latin typeface="Century Schoolboo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57120" y="1928880"/>
          <a:ext cx="8286840" cy="4572000"/>
        </p:xfrm>
        <a:graphic>
          <a:graphicData uri="http://schemas.openxmlformats.org/drawingml/2006/table">
            <a:tbl>
              <a:tblPr/>
              <a:tblGrid>
                <a:gridCol w="689040"/>
                <a:gridCol w="574560"/>
                <a:gridCol w="719280"/>
                <a:gridCol w="1386000"/>
                <a:gridCol w="172800"/>
                <a:gridCol w="1559160"/>
                <a:gridCol w="1460520"/>
                <a:gridCol w="1725480"/>
              </a:tblGrid>
              <a:tr h="374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ни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нед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жи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гр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. обл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местная деятельность детей  с воспита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развивающей среды для самостоятельной детской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заимодей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в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рупп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.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худ.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ення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а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журство по столов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 в уголке при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.г.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в центре активности по интерес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беседы по запросам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0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ул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ая бес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пору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природным  и выносным материал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7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сказки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лушивание спокойной музы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Г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«Усыплялочки»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акс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овина дня, веч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стика в постели, ходьба по массажной дорожке, водные процеду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материалов к занятию, атрибутов к инр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ОБРАЗОВАТЕЛЬНАЯ ДЕЯТЕЛЬНОСТЬ В ХОДЕ РЕЖИМНЫХ МОМЕНТОВ 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ланировании образовательного содержания в ходе режимных моментов целесообразно использовать циклограмму, позволяющую педагогу установить «разумный баланс» между видами образовательной деятельности, амплифицировать развитие детей по основным направлениям: физическому, социально-личностному, познавательно-речевому и художественно-эстетическо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40" y="2506680"/>
            <a:ext cx="7215120" cy="4351320"/>
          </a:xfrm>
          <a:prstGeom prst="rect">
            <a:avLst/>
          </a:prstGeom>
          <a:ln w="0">
            <a:noFill/>
          </a:ln>
        </p:spPr>
      </p:pic>
      <p:pic>
        <p:nvPicPr>
          <p:cNvPr id="355" name="Заголовок 1" descr=""/>
          <p:cNvPicPr/>
          <p:nvPr/>
        </p:nvPicPr>
        <p:blipFill>
          <a:blip r:embed="rId2"/>
          <a:stretch/>
        </p:blipFill>
        <p:spPr>
          <a:xfrm>
            <a:off x="55440" y="49320"/>
            <a:ext cx="85219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6840" y="571680"/>
            <a:ext cx="78296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Благодарю 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за внимание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3571920" y="3286080"/>
            <a:ext cx="37861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401760" y="669960"/>
            <a:ext cx="80722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6840" y="571320"/>
            <a:ext cx="74674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 планирован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еспечение целенаправленного развития образовательных областей образовательной программы, их интеграци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здание базы для осуществления контроля за ОП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оставление информации об организации деятельности возрастной группы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ализацию новых форм взаимодействия с детьми, родителями в структуре планирова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ЛАНИРОВАНИЕ ОТРАЖАЕТ</a:t>
            </a:r>
            <a:br>
              <a:rPr sz="3600"/>
            </a:br>
            <a:endParaRPr b="0" lang="en-US" sz="36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реализации основной образовательной программы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ецифику и развитие приоритетных направлений деятельности ДОУ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авливает связи между занятиями, игрой и трудом детей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и результаты реализуемых творческих проек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кон РФ «Об образовании» (пункт 6.2 статьи 9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каз министерства образования и науки РФ от 23.11.2009 г. №655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тверждены ФГТ к структуре основной общеобразовательной программы Д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ложения ФГТ являются основ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руктуры планирования образов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 основываться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плексно-тематическом принцип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троения образовательного процесса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предусматривать решение образовательных задач в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овместной деятельности взрослого и детей и самостоятельной деятельности детей не только в рамках НОД, но и при проведении режимных моменто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 предполагать построение образовательного процесса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екватных возрасту формах работы с деть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Примерами построения образовательного процесса по комплексно-тематическому принципу служат вариативные программ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мерная основная общеобразовательная программа дошкольного образования «Успех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т рождения до школ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Золотой ключик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Сообщество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214200"/>
            <a:ext cx="746748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Овал 4"/>
          <p:cNvSpPr/>
          <p:nvPr/>
        </p:nvSpPr>
        <p:spPr>
          <a:xfrm flipV="1" rot="10800000">
            <a:off x="2286000" y="928800"/>
            <a:ext cx="4500720" cy="164304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 принцип построения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5"/>
          <p:cNvSpPr/>
          <p:nvPr/>
        </p:nvSpPr>
        <p:spPr>
          <a:xfrm>
            <a:off x="1357200" y="3071880"/>
            <a:ext cx="128592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6"/>
          <p:cNvSpPr/>
          <p:nvPr/>
        </p:nvSpPr>
        <p:spPr>
          <a:xfrm>
            <a:off x="3857760" y="3500280"/>
            <a:ext cx="135720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6429240" y="3071880"/>
            <a:ext cx="121464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8"/>
          <p:cNvSpPr/>
          <p:nvPr/>
        </p:nvSpPr>
        <p:spPr>
          <a:xfrm>
            <a:off x="3842280" y="2858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Прямая со стрелкой 10"/>
          <p:cNvCxnSpPr/>
          <p:nvPr/>
        </p:nvCxnSpPr>
        <p:spPr>
          <a:xfrm flipH="1">
            <a:off x="2356560" y="2428560"/>
            <a:ext cx="429480" cy="57204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0" name="Прямая со стрелкой 12"/>
          <p:cNvCxnSpPr/>
          <p:nvPr/>
        </p:nvCxnSpPr>
        <p:spPr>
          <a:xfrm flipH="1">
            <a:off x="4570200" y="2643120"/>
            <a:ext cx="3600" cy="6433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1" name="Прямая со стрелкой 14"/>
          <p:cNvCxnSpPr/>
          <p:nvPr/>
        </p:nvCxnSpPr>
        <p:spPr>
          <a:xfrm>
            <a:off x="6143760" y="2428560"/>
            <a:ext cx="42912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72" name="Овал 15"/>
          <p:cNvSpPr/>
          <p:nvPr/>
        </p:nvSpPr>
        <p:spPr>
          <a:xfrm>
            <a:off x="2500200" y="5143680"/>
            <a:ext cx="421488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интег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17"/>
          <p:cNvCxnSpPr/>
          <p:nvPr/>
        </p:nvCxnSpPr>
        <p:spPr>
          <a:xfrm>
            <a:off x="2000160" y="4000320"/>
            <a:ext cx="1215360" cy="121500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4" name="Прямая со стрелкой 19"/>
          <p:cNvCxnSpPr/>
          <p:nvPr/>
        </p:nvCxnSpPr>
        <p:spPr>
          <a:xfrm flipH="1">
            <a:off x="4570200" y="4501800"/>
            <a:ext cx="360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5" name="Прямая со стрелкой 21"/>
          <p:cNvCxnSpPr/>
          <p:nvPr/>
        </p:nvCxnSpPr>
        <p:spPr>
          <a:xfrm flipH="1">
            <a:off x="5857200" y="4071600"/>
            <a:ext cx="1143720" cy="11437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09:09:02Z</dcterms:created>
  <dc:creator>Лидер</dc:creator>
  <dc:description/>
  <dc:language>en-US</dc:language>
  <cp:lastModifiedBy>USER</cp:lastModifiedBy>
  <dcterms:modified xsi:type="dcterms:W3CDTF">2013-03-30T15:55:16Z</dcterms:modified>
  <cp:revision>46</cp:revision>
  <dc:subject/>
  <dc:title>«Планирование   образовательного процесса с детьми в условиях реализации                       ФГТ»</dc:title>
</cp:coreProperties>
</file>