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5BBF-079C-4179-BBBB-D791208D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EB65-568C-4EEC-BFE8-C1AEED6C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98AA-2841-44DD-962D-41FB8F65D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6243-4DC3-4784-B1DC-5E50F9476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153B-4A0C-4354-9803-D493B547E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4FC8-8C29-40D3-82C7-ED4FD006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EF50-972A-4BED-8FD0-DE3B3629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D0D6-DC1C-45C4-A140-BED19484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B560-4879-415C-9409-3822E1B0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413C-B627-47F4-8E66-E42F2356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3E33-FC0D-4511-AD37-8C6502B0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D1E4-4228-4970-A018-31D38439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91D2-5E35-42A8-8E1A-AA3D2252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F0A3-3F95-4CAC-AFFD-740F372A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7C09-28A8-436E-857C-498A9687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4FD5-D204-478F-AC38-58958B95F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52FF-69C8-4F19-8916-FC62D7F1B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74B49A-E53D-4022-9DD3-C9E92338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3A8D97-5A21-4460-B00A-8760A5F2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2BDD95-95F4-4FA1-9E80-FD36B6E7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DDDA66-4797-4DF6-BD44-63BADCEE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C74F41-0F75-4B15-8AFC-90A56A7C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A232-AC96-4936-82C5-114AF428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122C8C-597D-4948-AEFB-E662A80F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4DD8C6-ADD9-43E4-95CF-847ED6DE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76E35F-B1E7-4B6A-B299-6BB4C3D4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DF0460-74D7-46C0-981C-7E80DF10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57E0DB-C5B2-4103-BAC4-E430193D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63FF76-5EC6-40E0-B2B7-CF600366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E7F431-7BA7-4077-BF5B-5D870A89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845AA-7066-40D8-A12C-A9EFBDD65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965F9-C70B-4593-8C76-B53E8EB5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F0A2E-AA63-49FB-8C04-5046A929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3CAD-D951-423F-8DD9-80A49FCE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DB1C7-D685-4DA3-910A-806A8FFB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20137-936E-4BFB-BDAB-526F680D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E650E-81F1-480F-9C8C-35E4DAE7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9F542-54C8-4FE7-9843-DB91EABB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36BDD-339A-4FFB-BCEE-5E6DC43A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B20FF-3A04-4C34-BF0E-C5F24B6E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BE813-9AC8-45C7-8147-CFF47C03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B6D76-1FDE-4E12-9D1A-B92944CA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D3A19-C454-40A8-8F5F-367479EAE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5F9C6E-5E69-41F4-A538-0604389EB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4C2D-7935-4E00-99F5-3A3F7A8A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69ADE6-5BF2-4E65-BA8F-7EB4EE6C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24AE85-B7E0-466F-99F5-CAD50D96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BD1CAA-B407-432E-9D7C-8D8F56EB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2FBEA0-AD43-462B-8C86-5DF37C91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9D0F6F-F258-4C43-8CBA-98A79A39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5DB1EC-362F-4B1C-8EEE-7294DDC6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5D90BD-78F1-4341-8BFA-6B876459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4F3DA7-82DE-4D5D-8301-9C4FBFEC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A8E01C-EA89-4849-9E09-6004D7EE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1261EB-8950-4BD0-B2BB-A6EAB51FD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C524-BB07-4D92-A358-73EBDF58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1F931A-F3ED-41E5-BD4D-380A7B85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5090CC-9C1C-4389-98D9-9F21CCEA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27397E-854A-49A9-B706-FB7834D4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040DE1-8104-40E6-9739-0B5DC95F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7C2283-B9F0-4E4F-9E6B-B1900743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F3AEA8-1E8C-4543-93F9-E7C41EAE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6B8E94-2D3E-4DFB-869B-B443AC96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2C7947-D749-4930-B8AA-87892CD9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41FA8D-D6FA-4294-AF5C-261CA9A2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688AE9-EE08-44CB-BE07-AB0FCC79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3803-2B2D-4A0C-9CDE-5629407A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005651-CFAA-42BF-9B43-6964DEFD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F8C2CA-2388-4E7D-83A8-61334B728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DB7FDB-3240-4D27-9FF5-F1A0F08F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2F3767-A55B-457E-BC61-7DF1B22F7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0FDD23-7A58-4F50-8C0D-2E4A5A64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D44D5F-01D1-4A68-9D85-3BE41A3B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2A8570-91C4-4351-BAA9-FD1E78A4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0F36E0-6B40-439E-908E-B2E5F84D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43C0EE-804A-42E7-B4DA-648CB156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C289D6-C191-43A3-86AD-6E1CC142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519D-5157-42DB-9695-4996FDF4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476C9C-43D8-4822-B0AC-CC3CCDCC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9ADD5E-5854-4367-8287-EF313AEE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CC9D0A-C486-404E-9881-EDC09499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543493-5FD2-4C3C-905F-19FB50754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BA1483-80E2-40B5-BDFB-DD4A1BCF9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163E-661F-435F-913C-9032771A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5D71-B95E-4A8A-AF87-B8A66F54222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c0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d8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d8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ec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c0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ec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c0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c0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6620-3131-4D0C-84F3-4917AD1F5F2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A210-CCDB-450C-A00D-60DA836431D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c0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d8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d8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ec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c0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ec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c0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c0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3ded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3ded1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ded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ded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11F0-E619-4808-AF15-B5D4BF3988F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0A01-C811-43B4-B336-18C97A85565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6566-0A77-4B66-95FE-8AFD8527E8C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A5E7-664C-485E-88E0-4A0DD76395D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1974960" y="360360"/>
            <a:ext cx="6894360" cy="3125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" descr=""/>
          <p:cNvPicPr/>
          <p:nvPr/>
        </p:nvPicPr>
        <p:blipFill>
          <a:blip r:embed="rId2"/>
          <a:stretch/>
        </p:blipFill>
        <p:spPr>
          <a:xfrm>
            <a:off x="3203640" y="2997360"/>
            <a:ext cx="3786120" cy="329544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3"/>
          <p:cNvSpPr/>
          <p:nvPr/>
        </p:nvSpPr>
        <p:spPr>
          <a:xfrm>
            <a:off x="6156360" y="5950080"/>
            <a:ext cx="2987640" cy="76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5f07"/>
                </a:solidFill>
                <a:latin typeface="Century Schoolbook"/>
              </a:rPr>
              <a:t>Блейхер Жанна Андре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5f07"/>
                </a:solidFill>
                <a:latin typeface="Century Schoolbook"/>
              </a:rPr>
              <a:t>старший воспита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5f07"/>
                </a:solidFill>
                <a:latin typeface="Century Schoolbook"/>
              </a:rPr>
              <a:t>МБДОУ «ЦРР – детский сад №41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ТЕРМИН «ПЛАН» ТРАКТУЕТСЯ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 система взаимосвязанных, направленных на достижение единой цели плановых заданий, определяющих порядок, сроки и последовательность осуществления программ, работ или отдельных мероприятий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особ кратко (или полно) зафиксировать целевые ориентиры, познавательные задачи, программное содержание, последовательность организации и проведения образовательной деятельности с детьм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499680"/>
            <a:ext cx="7467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ПО ВИДАМ ПЛАНЫ ДЕЛЯТСЯ </a:t>
            </a:r>
            <a:endParaRPr b="0" lang="en-US" sz="32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28400" y="1000080"/>
            <a:ext cx="746748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Прямоугольник 3"/>
          <p:cNvSpPr/>
          <p:nvPr/>
        </p:nvSpPr>
        <p:spPr>
          <a:xfrm>
            <a:off x="2143080" y="1285920"/>
            <a:ext cx="4286160" cy="9144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4"/>
          <p:cNvSpPr/>
          <p:nvPr/>
        </p:nvSpPr>
        <p:spPr>
          <a:xfrm>
            <a:off x="3232800" y="135720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ерспектив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5"/>
          <p:cNvSpPr/>
          <p:nvPr/>
        </p:nvSpPr>
        <p:spPr>
          <a:xfrm>
            <a:off x="2143080" y="2643120"/>
            <a:ext cx="4286160" cy="9144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омплексно-тема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6"/>
          <p:cNvSpPr/>
          <p:nvPr/>
        </p:nvSpPr>
        <p:spPr>
          <a:xfrm>
            <a:off x="2214720" y="4214880"/>
            <a:ext cx="4214520" cy="9144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аленда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ая соединительная линия 10"/>
          <p:cNvSpPr/>
          <p:nvPr/>
        </p:nvSpPr>
        <p:spPr>
          <a:xfrm flipV="1">
            <a:off x="1071720" y="785520"/>
            <a:ext cx="0" cy="407196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Прямая со стрелкой 16"/>
          <p:cNvCxnSpPr/>
          <p:nvPr/>
        </p:nvCxnSpPr>
        <p:spPr>
          <a:xfrm>
            <a:off x="1071360" y="1714680"/>
            <a:ext cx="85788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86" name="Прямая со стрелкой 18"/>
          <p:cNvCxnSpPr/>
          <p:nvPr/>
        </p:nvCxnSpPr>
        <p:spPr>
          <a:xfrm>
            <a:off x="1071720" y="2999880"/>
            <a:ext cx="786240" cy="25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87" name="Прямая со стрелкой 20"/>
          <p:cNvCxnSpPr/>
          <p:nvPr/>
        </p:nvCxnSpPr>
        <p:spPr>
          <a:xfrm>
            <a:off x="1071720" y="4857840"/>
            <a:ext cx="78624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sp>
        <p:nvSpPr>
          <p:cNvPr id="388" name="Прямая соединительная линия 22"/>
          <p:cNvSpPr/>
          <p:nvPr/>
        </p:nvSpPr>
        <p:spPr>
          <a:xfrm flipH="1" flipV="1">
            <a:off x="1071360" y="785880"/>
            <a:ext cx="571320" cy="144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25"/>
          <p:cNvSpPr/>
          <p:nvPr/>
        </p:nvSpPr>
        <p:spPr>
          <a:xfrm flipH="1">
            <a:off x="7429680" y="785880"/>
            <a:ext cx="1440" cy="407340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ая соединительная линия 28"/>
          <p:cNvSpPr/>
          <p:nvPr/>
        </p:nvSpPr>
        <p:spPr>
          <a:xfrm flipH="1" flipV="1">
            <a:off x="6858000" y="785880"/>
            <a:ext cx="571680" cy="144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Прямая со стрелкой 32"/>
          <p:cNvCxnSpPr/>
          <p:nvPr/>
        </p:nvCxnSpPr>
        <p:spPr>
          <a:xfrm flipH="1" flipV="1">
            <a:off x="6714360" y="1714320"/>
            <a:ext cx="71532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92" name="Прямая со стрелкой 37"/>
          <p:cNvCxnSpPr/>
          <p:nvPr/>
        </p:nvCxnSpPr>
        <p:spPr>
          <a:xfrm flipH="1" flipV="1">
            <a:off x="6714360" y="2999520"/>
            <a:ext cx="715320" cy="25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93" name="Прямая со стрелкой 43"/>
          <p:cNvCxnSpPr/>
          <p:nvPr/>
        </p:nvCxnSpPr>
        <p:spPr>
          <a:xfrm flipH="1" flipV="1">
            <a:off x="6714360" y="4857480"/>
            <a:ext cx="71532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3232"/>
                </a:solidFill>
                <a:latin typeface="Century Schoolbook"/>
              </a:rPr>
              <a:t>СЛАБЫЕ СТОРОНЫ ПЕРСПЕКТИВНОГО ПЛАНИРОВАНИЯ</a:t>
            </a: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: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ерспективное планирование, в отсутствии календарного (комплексно – тематического) плана, не раскрывает содержания деятельности, методические приемы, не конкретизирует дидактическое обеспечение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е всегда позволяет равномерно распределить деятельность по ее видам в течение определенного отрезка времени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избежать прецедента дополнительной нагрузки на детей или ее необоснованного отсутствия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затрудняет осуществление методического контроля над выполнением планируемых мероприятий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КОМПЛЕКСНО – ТЕМАТИЧЕСКИЙ ПЛАН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999720"/>
            <a:ext cx="74674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овательным содержанием комплексно-тематического пла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ются собы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зволяющие дошкольнику успешно «ориентироваться в четырех мирах действительности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е живой и неживой приро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творном мире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е общественных (социальных отношений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е собственной внутренней жизнедеятельности» (Концепция дошкольного воспитания)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6840" y="857160"/>
            <a:ext cx="7467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разработке комплексно – тематического плана педагогом выделяются основные «узловые» темы. Темы занятий «многослойны», т. е. они повторяются с определенным усложнением в каждой возрастной группе. Возвращение к теме в иных педагогических условиях, на другом содержании, возрастном уровне развития помогают ребенку успешно освоить информацию, овладеть новыми способами общения и познания окружающего мира, формирует компетентность как особую «практическую умелость, опыт» при решении несложных жизненных ситуаци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о – тематический план может составляться воспитателем при участии специалистов ДОУ, которые на своих занятиях творчески обогащают и дополняют возможности детей, добиваясь при интеграции высоких образовательных эффектов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6840" y="713880"/>
            <a:ext cx="7467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тематического содержания, определение форм работы по его реализации и интеграции осуществляется педагогом на месяц. Основным принципом при подборе содержания являются образовательные области и решение их основных задач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23232"/>
                </a:solidFill>
                <a:latin typeface="Century Schoolbook"/>
              </a:rPr>
              <a:t>СОДЕРЖАНИЕ КАЛЕНДАРНОГО ПЛАНА СТРУКТУРИРУЕТСЯ ПО БЛОКАМ И ПРЕДСТАВЛЯЕТСЯ В ВИДЕ СХЕМЫ.</a:t>
            </a:r>
            <a:endParaRPr b="0" lang="en-US" sz="25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Образовательный бло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(сетка занятий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Блок совместной деятельности взрослого и дет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Блок самостоятельной деятельности детей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792972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КАЛЕНДАРНОЕ  ПЛАНИРОВАНИЕ  ВОСПИТАТЕЛЬНО-ОБРАЗОВАТЕЛЬНОЙ РАБОТЫ</a:t>
            </a:r>
            <a:br>
              <a:rPr sz="1200"/>
            </a:br>
            <a:r>
              <a:rPr b="1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           НА ПЕРИОД:__________________________________________, ГРУППА:_____________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ТЕМА:_________________________________________________________________________________________</a:t>
            </a:r>
            <a:br>
              <a:rPr sz="1200"/>
            </a:br>
            <a:r>
              <a:rPr b="0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ЦЕЛЬ:_______________________________________________________________________________________</a:t>
            </a:r>
            <a:br>
              <a:rPr sz="1200"/>
            </a:b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ИТОГОВОЕ</a:t>
            </a:r>
            <a:r>
              <a:rPr b="0" lang="en-US" sz="1200" spc="-1" strike="noStrike">
                <a:solidFill>
                  <a:srgbClr val="323232"/>
                </a:solidFill>
                <a:latin typeface="Century Schoolbook"/>
              </a:rPr>
              <a:t>     </a:t>
            </a: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МЕРОПРИЯТИЕ:________________________________________________ДАТА:____</a:t>
            </a:r>
            <a:br>
              <a:rPr sz="1200"/>
            </a:br>
            <a:endParaRPr b="0" lang="en-US" sz="1200" spc="-1" strike="noStrike">
              <a:solidFill>
                <a:srgbClr val="323232"/>
              </a:solidFill>
              <a:latin typeface="Century Schoolbook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357120" y="1928880"/>
          <a:ext cx="8286840" cy="4572000"/>
        </p:xfrm>
        <a:graphic>
          <a:graphicData uri="http://schemas.openxmlformats.org/drawingml/2006/table">
            <a:tbl>
              <a:tblPr/>
              <a:tblGrid>
                <a:gridCol w="689040"/>
                <a:gridCol w="574560"/>
                <a:gridCol w="719280"/>
                <a:gridCol w="1386000"/>
                <a:gridCol w="172800"/>
                <a:gridCol w="1559160"/>
                <a:gridCol w="1460520"/>
                <a:gridCol w="1725480"/>
              </a:tblGrid>
              <a:tr h="374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ни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неде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жи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гр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. обл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вместная деятельность детей  с воспитател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развивающей среды для самостоятельной детской деяте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заимодей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в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род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руппов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р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.т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.худ.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ренняя гимнас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чиковая гимнас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журство по столово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 в уголке прир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итие к.г.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в центре активности по интерес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беседы по запросам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0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ул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е 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уативная бесе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вое пору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с природным  и выносным материал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7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перед сн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сказки перед сн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лушивание спокойной музы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итие КГ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«Усыплялочки»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лакс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овина дня, вече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мнастика в постели, ходьба по массажной дорожке, водные процеду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материалов к занятию, атрибутов к инр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ОБРАЗОВАТЕЛЬНАЯ ДЕЯТЕЛЬНОСТЬ В ХОДЕ РЕЖИМНЫХ МОМЕНТОВ 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планировании образовательного содержания в ходе режимных моментов целесообразно использовать циклограмму, позволяющую педагогу установить «разумный баланс» между видами образовательной деятельности, амплифицировать развитие детей по основным направлениям: физическому, социально-личностному, познавательно-речевому и художественно-эстетическом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500040" y="2506680"/>
            <a:ext cx="7215120" cy="4351320"/>
          </a:xfrm>
          <a:prstGeom prst="rect">
            <a:avLst/>
          </a:prstGeom>
          <a:ln w="0">
            <a:noFill/>
          </a:ln>
        </p:spPr>
      </p:pic>
      <p:pic>
        <p:nvPicPr>
          <p:cNvPr id="355" name="Заголовок 1" descr=""/>
          <p:cNvPicPr/>
          <p:nvPr/>
        </p:nvPicPr>
        <p:blipFill>
          <a:blip r:embed="rId2"/>
          <a:stretch/>
        </p:blipFill>
        <p:spPr>
          <a:xfrm>
            <a:off x="55440" y="49320"/>
            <a:ext cx="852192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6840" y="571680"/>
            <a:ext cx="782964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b45f07"/>
                </a:solidFill>
                <a:latin typeface="Arial"/>
                <a:ea typeface="Arial"/>
              </a:rPr>
              <a:t>Благодарю </a:t>
            </a:r>
            <a:endParaRPr b="0" lang="en-US" sz="8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b45f07"/>
                </a:solidFill>
                <a:latin typeface="Arial"/>
                <a:ea typeface="Arial"/>
              </a:rPr>
              <a:t>за внимание</a:t>
            </a:r>
            <a:endParaRPr b="0" lang="en-US" sz="8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8" name="Picture 1" descr=""/>
          <p:cNvPicPr/>
          <p:nvPr/>
        </p:nvPicPr>
        <p:blipFill>
          <a:blip r:embed="rId1"/>
          <a:stretch/>
        </p:blipFill>
        <p:spPr>
          <a:xfrm>
            <a:off x="3571920" y="3286080"/>
            <a:ext cx="378612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401760" y="669960"/>
            <a:ext cx="807228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56840" y="571320"/>
            <a:ext cx="746748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и планирования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беспечение целенаправленного развития образовательных областей образовательной программы, их интеграции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здание базы для осуществления контроля за ОП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едоставление информации об организации деятельности возрастной группы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еализацию новых форм взаимодействия с детьми, родителями в структуре планирован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ПЛАНИРОВАНИЕ ОТРАЖАЕТ</a:t>
            </a:r>
            <a:br>
              <a:rPr sz="3600"/>
            </a:br>
            <a:endParaRPr b="0" lang="en-US" sz="36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од реализации основной образовательной программы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ецифику и развитие приоритетных направлений деятельности ДОУ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станавливает связи между занятиями, игрой и трудом детей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од и результаты реализуемых творческих проект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56840" y="928440"/>
            <a:ext cx="746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кон РФ «Об образовании» (пункт 6.2 статьи 9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иказ министерства образования и науки РФ от 23.11.2009 г. №655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тверждены ФГТ к структуре основной общеобразовательной программы ДО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ложения ФГТ являются осново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труктуры планирования образовательной деятельност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6840" y="428760"/>
            <a:ext cx="7467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рограмма должна основываться на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мплексно-тематическом принципе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строения образовательного процесса…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рограмма должна…предусматривать решение образовательных задач в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овместной деятельности взрослого и детей и самостоятельной деятельности детей не только в рамках НОД, но и при проведении режимных моментов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…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рограмма должна… предполагать построение образовательного процесса на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декватных возрасту формах работы с деть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6840" y="428760"/>
            <a:ext cx="7467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Примерами построения образовательного процесса по комплексно-тематическому принципу служат вариативные программ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мерная основная общеобразовательная программа дошкольного образования «Успех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От рождения до школы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грамма «Золотой ключик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грамма «Сообщество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6840" y="214200"/>
            <a:ext cx="7467480" cy="625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Овал 4"/>
          <p:cNvSpPr/>
          <p:nvPr/>
        </p:nvSpPr>
        <p:spPr>
          <a:xfrm flipV="1" rot="10800000">
            <a:off x="2286000" y="928800"/>
            <a:ext cx="4500720" cy="164304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омплексно-тематический принцип построения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Овал 5"/>
          <p:cNvSpPr/>
          <p:nvPr/>
        </p:nvSpPr>
        <p:spPr>
          <a:xfrm>
            <a:off x="1357200" y="3071880"/>
            <a:ext cx="128592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Овал 6"/>
          <p:cNvSpPr/>
          <p:nvPr/>
        </p:nvSpPr>
        <p:spPr>
          <a:xfrm>
            <a:off x="3857760" y="3500280"/>
            <a:ext cx="135720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6429240" y="3071880"/>
            <a:ext cx="121464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8"/>
          <p:cNvSpPr/>
          <p:nvPr/>
        </p:nvSpPr>
        <p:spPr>
          <a:xfrm>
            <a:off x="3842280" y="28584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осн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Прямая со стрелкой 10"/>
          <p:cNvCxnSpPr/>
          <p:nvPr/>
        </p:nvCxnSpPr>
        <p:spPr>
          <a:xfrm flipH="1">
            <a:off x="2356560" y="2428560"/>
            <a:ext cx="429480" cy="57204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0" name="Прямая со стрелкой 12"/>
          <p:cNvCxnSpPr/>
          <p:nvPr/>
        </p:nvCxnSpPr>
        <p:spPr>
          <a:xfrm flipH="1">
            <a:off x="4570200" y="2643120"/>
            <a:ext cx="3600" cy="6433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1" name="Прямая со стрелкой 14"/>
          <p:cNvCxnSpPr/>
          <p:nvPr/>
        </p:nvCxnSpPr>
        <p:spPr>
          <a:xfrm>
            <a:off x="6143760" y="2428560"/>
            <a:ext cx="429120" cy="5007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sp>
        <p:nvSpPr>
          <p:cNvPr id="372" name="Овал 15"/>
          <p:cNvSpPr/>
          <p:nvPr/>
        </p:nvSpPr>
        <p:spPr>
          <a:xfrm>
            <a:off x="2500200" y="5143680"/>
            <a:ext cx="421488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интег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Прямая со стрелкой 17"/>
          <p:cNvCxnSpPr/>
          <p:nvPr/>
        </p:nvCxnSpPr>
        <p:spPr>
          <a:xfrm>
            <a:off x="2000160" y="4000320"/>
            <a:ext cx="1215360" cy="121500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4" name="Прямая со стрелкой 19"/>
          <p:cNvCxnSpPr/>
          <p:nvPr/>
        </p:nvCxnSpPr>
        <p:spPr>
          <a:xfrm flipH="1">
            <a:off x="4570200" y="4501800"/>
            <a:ext cx="3600" cy="5007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5" name="Прямая со стрелкой 21"/>
          <p:cNvCxnSpPr/>
          <p:nvPr/>
        </p:nvCxnSpPr>
        <p:spPr>
          <a:xfrm flipH="1">
            <a:off x="5857200" y="4071600"/>
            <a:ext cx="1143720" cy="11437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09:09:02Z</dcterms:created>
  <dc:creator>Лидер</dc:creator>
  <dc:description/>
  <dc:language>en-US</dc:language>
  <cp:lastModifiedBy>USER</cp:lastModifiedBy>
  <dcterms:modified xsi:type="dcterms:W3CDTF">2013-03-30T15:55:16Z</dcterms:modified>
  <cp:revision>46</cp:revision>
  <dc:subject/>
  <dc:title>«Планирование   образовательного процесса с детьми в условиях реализации                       ФГТ»</dc:title>
</cp:coreProperties>
</file>