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DBCF-1A71-4AF0-BC9F-FD47C402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C38-F344-47AB-A4C4-A466C32E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F2E-D6E0-4FE4-B39C-078E921D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C03-CC74-4386-AAE7-C77F465E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E66C-F5BF-4723-B4DE-73AB43C5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CD39-D571-457C-8495-5EFEB18C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3DF8-BFEC-443B-B890-50EB98CC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809D-F03A-4DC0-B816-6FB81958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5356-EA35-49DA-9BCC-AA6579F2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A97E-CF86-4112-88C9-657D18DE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AC88-FCB4-45F4-8378-36D4FFD9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58A-A0EE-4FE1-9916-9C2C1281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22FA-7C5F-4966-8461-99992745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F22D-B809-4A3A-9CF2-0B4E4E5B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88C2-5A8D-452F-AC93-20678F9C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64E4-B3F7-45E3-878C-E0BED046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CE02-5AC8-4C59-AFA1-9C71CCFB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E5BB2-1E7F-444F-B309-6B07DD48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05846-D4ED-4C73-BC67-73708131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AE4DD-4DF0-44F8-AC4F-5109C13D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5D956-F8DB-431E-91B2-9E35B64E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47C52-4899-498E-9B5A-855541D8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15C0-A951-4658-AC50-223D1E53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BA00F-BEA6-4828-8B0B-9750F91D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71832-5EDA-401F-8FBC-65856F14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6C01D-DE47-4376-BE62-746D04CB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DF0A1-A1D6-48B0-971B-724A2F40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67F2C-9D92-4485-9849-292D864C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57F2B-5477-4511-8EF3-7EA3CDBC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5F578-A3DB-475B-B23D-A09D17A8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F8E3B-7459-4E04-94B2-59DAB3E7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C48EB-B061-4E9A-8495-88BAEC17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E51B7-4093-4EA9-9431-A4B044C2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D80-8873-44F2-B5AA-9AC6594A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A9384-3B44-461E-9DDF-6DB86FD3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20075-46B7-4FFD-A7EB-E9384493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7A5B3-FE67-4B2C-A834-0B224020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D73A1-AA3E-4193-A04A-25C69276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2C3DB-77E6-4A46-A888-37661546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9C24B-46A3-4D27-82C5-65B4CB44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5BA89-70A9-46D6-9536-C776282C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30515-29D7-4C91-A914-5724F731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0785F-1268-4D98-A51E-B8B9F13D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B64C5-335E-438E-B3C1-5CCB44E7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C13-E49A-4431-A86E-2055ABA4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E5DA03-51E5-4418-8B06-51EC8713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B5527-1BC6-4631-ADFF-21D27CE7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0DFF22-A389-4E57-8081-F2FCA098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439C42-48EE-4E36-BF42-A586CEAF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9B0564-F223-48BF-912E-2A8B7D8F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48D113-8836-473E-BB61-B384DA09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655CB-573C-457C-8447-C2684184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52B3A7-557B-4B1F-B823-50C199D8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1C5C0-941B-42E5-B8AB-D46C449A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05ED2-4642-40F4-B636-53E74CE5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3C7-4D8C-4C41-A895-DCE653B3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C8E127-BB3B-4DB3-BEB7-AE272C43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565277-956D-42BC-90FD-13962916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060665-E421-4DE2-9C67-3E94E6A9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33ED0-9B21-4350-B38C-0EABBFC8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4AA81-69E7-451E-A54A-4900AB52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C8581C-78E6-4BFA-8B3C-85821A5D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F31B2E-4E78-44FB-91C0-5445073C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E469E8-6351-483D-A763-CBA03AFC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43DDB-4698-41F7-A738-BB4E8EE0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9F68DA-7E26-4A4C-8C79-BE862AED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F45-3D86-43CD-B1A7-31CF3786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32BA4B-C8D5-408D-BCFE-5041BF6D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36A05-565E-4FF4-8D1F-A93B9403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8A8D47-163C-4A55-A275-F0259A0F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30B62-3C37-4463-B01A-4967C60B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C7CAF2-EDC1-44AC-BD4C-12D1CA86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A0C9CD-5666-4810-A1C7-D166D16B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207D5E-6F49-4FFD-BE43-7BB345D5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6F7D44-F80A-4868-A82B-50ED3570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CA3247-AF92-4C31-9036-49B9A9BC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5FAD0E-9B59-4CCD-8168-899DB525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309-3160-4095-928A-274CE5BE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B9690F-B759-4893-A1A0-9DEBE73D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364F5C-DF0D-49D8-8387-A8A10AD1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250059-A0D4-4C10-89A1-2C742CD2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6E223-AE72-41D4-A1EF-21326A38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F08AD-2A40-46EA-82FC-E44BDDC6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CE9-E9A7-440E-A256-C3EBD2EF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C76B-C038-4BA9-AE57-B3CDBB84F3B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1637-A4FE-47DF-86F9-031EE3CF8CA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DB15-73CA-48C3-B943-20CAAADBE43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3ded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3ded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ded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ded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FBF2-7086-4234-87C4-5117F0CFE43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5D43-567F-482F-9258-DE50E9F960C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24B4-5DE8-4E4E-B8EF-8A0F6E7BCCA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4716-4098-4C84-ABFB-DB740025115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974960" y="360360"/>
            <a:ext cx="6894360" cy="312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3203640" y="2997360"/>
            <a:ext cx="3786120" cy="32954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6156360" y="5950080"/>
            <a:ext cx="2987640" cy="76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Блейхер Жанна Андр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старший воспит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МБДОУ «ЦРР – детский сад №41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ТЕРМИН «ПЛАН» ТРАКТУЕТСЯ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система взаимосвязанных, направленных на достижение единой цели плановых заданий, определяющих порядок, сроки и последовательность осуществления программ, работ или отдельных мероприятий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соб кратко (или полно) зафиксировать целевые ориентиры, познавательные задачи, программное содержание, последовательность организации и проведения образовательной деятельности с деть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О ВИДАМ ПЛАНЫ ДЕЛЯТСЯ </a:t>
            </a:r>
            <a:endParaRPr b="0" lang="en-US" sz="32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100008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Прямоугольник 3"/>
          <p:cNvSpPr/>
          <p:nvPr/>
        </p:nvSpPr>
        <p:spPr>
          <a:xfrm>
            <a:off x="2143080" y="12859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232800" y="135720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спек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2143080" y="26431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2214720" y="4214880"/>
            <a:ext cx="421452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аленд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0"/>
          <p:cNvSpPr/>
          <p:nvPr/>
        </p:nvSpPr>
        <p:spPr>
          <a:xfrm flipV="1">
            <a:off x="1071720" y="785520"/>
            <a:ext cx="0" cy="407196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Прямая со стрелкой 16"/>
          <p:cNvCxnSpPr/>
          <p:nvPr/>
        </p:nvCxnSpPr>
        <p:spPr>
          <a:xfrm>
            <a:off x="1071360" y="1714680"/>
            <a:ext cx="85788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6" name="Прямая со стрелкой 18"/>
          <p:cNvCxnSpPr/>
          <p:nvPr/>
        </p:nvCxnSpPr>
        <p:spPr>
          <a:xfrm>
            <a:off x="1071720" y="2999880"/>
            <a:ext cx="78624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7" name="Прямая со стрелкой 20"/>
          <p:cNvCxnSpPr/>
          <p:nvPr/>
        </p:nvCxnSpPr>
        <p:spPr>
          <a:xfrm>
            <a:off x="1071720" y="4857840"/>
            <a:ext cx="78624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88" name="Прямая соединительная линия 22"/>
          <p:cNvSpPr/>
          <p:nvPr/>
        </p:nvSpPr>
        <p:spPr>
          <a:xfrm flipH="1" flipV="1">
            <a:off x="1071360" y="785880"/>
            <a:ext cx="57132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5"/>
          <p:cNvSpPr/>
          <p:nvPr/>
        </p:nvSpPr>
        <p:spPr>
          <a:xfrm flipH="1">
            <a:off x="7429680" y="785880"/>
            <a:ext cx="1440" cy="407340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8"/>
          <p:cNvSpPr/>
          <p:nvPr/>
        </p:nvSpPr>
        <p:spPr>
          <a:xfrm flipH="1" flipV="1">
            <a:off x="6858000" y="785880"/>
            <a:ext cx="57168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32"/>
          <p:cNvCxnSpPr/>
          <p:nvPr/>
        </p:nvCxnSpPr>
        <p:spPr>
          <a:xfrm flipH="1" flipV="1">
            <a:off x="6714360" y="171432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2" name="Прямая со стрелкой 37"/>
          <p:cNvCxnSpPr/>
          <p:nvPr/>
        </p:nvCxnSpPr>
        <p:spPr>
          <a:xfrm flipH="1" flipV="1">
            <a:off x="6714360" y="2999520"/>
            <a:ext cx="71532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3" name="Прямая со стрелкой 43"/>
          <p:cNvCxnSpPr/>
          <p:nvPr/>
        </p:nvCxnSpPr>
        <p:spPr>
          <a:xfrm flipH="1" flipV="1">
            <a:off x="6714360" y="485748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entury Schoolbook"/>
              </a:rPr>
              <a:t>СЛАБЫЕ СТОРОНЫ ПЕРСПЕКТИВНОГО ПЛАНИРОВАНИЯ</a:t>
            </a: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рспективное планирование, в отсутствии календарного (комплексно – тематического) плана, не раскрывает содержания деятельности, методические приемы, не конкретизирует дидактическое обеспечение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 всегда позволяет равномерно распределить деятельность по ее видам в течение определенного отрезка времен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збежать прецедента дополнительной нагрузки на детей или ее необоснованного отсутств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трудняет осуществление методического контроля над выполнением планируемых мероприят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КОМПЛЕКСНО – ТЕМАТИЧЕСКИЙ ПЛАН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999720"/>
            <a:ext cx="7467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ым содержанием комплексно-тематического пла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собы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зволяющие дошкольнику успешно «ориентироваться в четырех мирах действительности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живой и неживой прир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творном мир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общественных (социальных отношений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собственной внутренней жизнедеятельности» (Концепция дошкольного воспитания)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разработке комплексно – тематического плана педагогом выделяются основные «узловые» темы. Темы занятий «многослойны», т. е. они повторяются с определенным усложнением в каждой возрастной группе. Возвращение к теме в иных педагогических условиях, на другом содержании, возрастном уровне развития помогают ребенку успешно освоить информацию, овладеть новыми способами общения и познания окружающего мира, формирует компетентность как особую «практическую умелость, опыт» при решении несложных жизненных ситуац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 – тематический план может составляться воспитателем при участии специалистов ДОУ, которые на своих занятиях творчески обогащают и дополняют возможности детей, добиваясь при интеграции высоких образовательных эффекто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6840" y="713880"/>
            <a:ext cx="7467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ематического содержания, определение форм работы по его реализации и интеграции осуществляется педагогом на месяц. Основным принципом при подборе содержания являются образовательные области и решение их основных задач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23232"/>
                </a:solidFill>
                <a:latin typeface="Century Schoolbook"/>
              </a:rPr>
              <a:t>СОДЕРЖАНИЕ КАЛЕНДАРНОГО ПЛАНА СТРУКТУРИРУЕТСЯ ПО БЛОКАМ И ПРЕДСТАВЛЯЕТСЯ В ВИДЕ СХЕМЫ.</a:t>
            </a:r>
            <a:endParaRPr b="0" lang="en-US" sz="25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бразовательный бло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(сетка занят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овместной деятельности взрослого и дет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амостоятельной деятельности дете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79297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КАЛЕНДАРНОЕ  ПЛАНИРОВАНИЕ  ВОСПИТАТЕЛЬНО-ОБРАЗОВАТЕЛЬНОЙ РАБОТЫ</a:t>
            </a:r>
            <a:br>
              <a:rPr sz="1200"/>
            </a:b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       НА ПЕРИОД:__________________________________________, ГРУППА:_____________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ТЕМА:__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ЦЕЛЬ: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ИТОГОВОЕ</a:t>
            </a:r>
            <a:r>
              <a:rPr b="0" lang="en-US" sz="1200" spc="-1" strike="noStrike">
                <a:solidFill>
                  <a:srgbClr val="323232"/>
                </a:solidFill>
                <a:latin typeface="Century Schoolbook"/>
              </a:rPr>
              <a:t>     </a:t>
            </a: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МЕРОПРИЯТИЕ:________________________________________________ДАТА:____</a:t>
            </a:r>
            <a:br>
              <a:rPr sz="1200"/>
            </a:br>
            <a:endParaRPr b="0" lang="en-US" sz="1200" spc="-1" strike="noStrike">
              <a:solidFill>
                <a:srgbClr val="323232"/>
              </a:solidFill>
              <a:latin typeface="Century School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57120" y="1928880"/>
          <a:ext cx="8286840" cy="4572000"/>
        </p:xfrm>
        <a:graphic>
          <a:graphicData uri="http://schemas.openxmlformats.org/drawingml/2006/table">
            <a:tbl>
              <a:tblPr/>
              <a:tblGrid>
                <a:gridCol w="689040"/>
                <a:gridCol w="574560"/>
                <a:gridCol w="719280"/>
                <a:gridCol w="1386000"/>
                <a:gridCol w="172800"/>
                <a:gridCol w="1559160"/>
                <a:gridCol w="1460520"/>
                <a:gridCol w="1725480"/>
              </a:tblGrid>
              <a:tr h="37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нед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жи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. обл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местная деятельность детей  с воспита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развивающей среды для самостоятельной детск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аимодей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в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рупп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.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худ.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ення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а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журство по столов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в уголке при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.г.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в центре активности по интерес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беседы по запросам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0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ул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ая бес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ор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природным  и выносным материал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7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казки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лушивание спокойной музы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Г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«Усыплялочки»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акс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овина дня, веч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в постели, ходьба по массажной дорожке, водные процеду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материалов к занятию, атрибутов к инр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ОБРАЗОВАТЕЛЬНАЯ ДЕЯТЕЛЬНОСТЬ В ХОДЕ РЕЖИМНЫХ МОМЕНТОВ 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ланировании образовательного содержания в ходе режимных моментов целесообразно использовать циклограмму, позволяющую педагогу установить «разумный баланс» между видами образовательной деятельности, амплифицировать развитие детей по основным направлениям: физическому, социально-личностному, познавательно-речевому и художественно-эстетическо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40" y="2506680"/>
            <a:ext cx="7215120" cy="4351320"/>
          </a:xfrm>
          <a:prstGeom prst="rect">
            <a:avLst/>
          </a:prstGeom>
          <a:ln w="0">
            <a:noFill/>
          </a:ln>
        </p:spPr>
      </p:pic>
      <p:pic>
        <p:nvPicPr>
          <p:cNvPr id="355" name="Заголовок 1" descr=""/>
          <p:cNvPicPr/>
          <p:nvPr/>
        </p:nvPicPr>
        <p:blipFill>
          <a:blip r:embed="rId2"/>
          <a:stretch/>
        </p:blipFill>
        <p:spPr>
          <a:xfrm>
            <a:off x="55440" y="49320"/>
            <a:ext cx="85219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6840" y="571680"/>
            <a:ext cx="78296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Благодарю 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за внимание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3571920" y="3286080"/>
            <a:ext cx="37861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401760" y="669960"/>
            <a:ext cx="80722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571320"/>
            <a:ext cx="74674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 планирован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еспечение целенаправленного развития образовательных областей образовательной программы, их интеграци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здание базы для осуществления контроля за ОП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оставление информации об организации деятельности возрастной группы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ализацию новых форм взаимодействия с детьми, родителями в структуре планиров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ЛАНИРОВАНИЕ ОТРАЖАЕТ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реализации основной образовательной программ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ецифику и развитие приоритетных направлений деятельности ДО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авливает связи между занятиями, игрой и трудом дете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и результаты реализуемых творческих проек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он РФ «Об образовании» (пункт 6.2 статьи 9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каз министерства образования и науки РФ от 23.11.2009 г. №65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тверждены ФГТ к структуре основной общеобразовательной программы Д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ложения ФГТ являются основ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руктуры планирования образо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 основываться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плексно-тематическом принцип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роения образовательного процесса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предусматривать решение образовательных задач в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вместной деятельности взрослого и детей и самостоятельной деятельности детей не только в рамках НОД, но и при проведении режимных моменто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 предполагать построение образовательного процесса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екватных возрасту формах работы с деть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Примерами построения образовательного процесса по комплексно-тематическому принципу служат вариативные программ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ерная основная общеобразовательная программа дошкольного образования «Успех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т рождения до школ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Золотой ключи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Сообщество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214200"/>
            <a:ext cx="74674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Овал 4"/>
          <p:cNvSpPr/>
          <p:nvPr/>
        </p:nvSpPr>
        <p:spPr>
          <a:xfrm flipV="1" rot="10800000">
            <a:off x="2286000" y="928800"/>
            <a:ext cx="4500720" cy="164304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 принцип построения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5"/>
          <p:cNvSpPr/>
          <p:nvPr/>
        </p:nvSpPr>
        <p:spPr>
          <a:xfrm>
            <a:off x="1357200" y="3071880"/>
            <a:ext cx="128592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6"/>
          <p:cNvSpPr/>
          <p:nvPr/>
        </p:nvSpPr>
        <p:spPr>
          <a:xfrm>
            <a:off x="3857760" y="3500280"/>
            <a:ext cx="135720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6429240" y="3071880"/>
            <a:ext cx="121464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8"/>
          <p:cNvSpPr/>
          <p:nvPr/>
        </p:nvSpPr>
        <p:spPr>
          <a:xfrm>
            <a:off x="3842280" y="2858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10"/>
          <p:cNvCxnSpPr/>
          <p:nvPr/>
        </p:nvCxnSpPr>
        <p:spPr>
          <a:xfrm flipH="1">
            <a:off x="2356560" y="2428560"/>
            <a:ext cx="429480" cy="57204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0" name="Прямая со стрелкой 12"/>
          <p:cNvCxnSpPr/>
          <p:nvPr/>
        </p:nvCxnSpPr>
        <p:spPr>
          <a:xfrm flipH="1">
            <a:off x="4570200" y="2643120"/>
            <a:ext cx="3600" cy="6433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1" name="Прямая со стрелкой 14"/>
          <p:cNvCxnSpPr/>
          <p:nvPr/>
        </p:nvCxnSpPr>
        <p:spPr>
          <a:xfrm>
            <a:off x="6143760" y="2428560"/>
            <a:ext cx="42912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72" name="Овал 15"/>
          <p:cNvSpPr/>
          <p:nvPr/>
        </p:nvSpPr>
        <p:spPr>
          <a:xfrm>
            <a:off x="2500200" y="5143680"/>
            <a:ext cx="421488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интег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17"/>
          <p:cNvCxnSpPr/>
          <p:nvPr/>
        </p:nvCxnSpPr>
        <p:spPr>
          <a:xfrm>
            <a:off x="2000160" y="4000320"/>
            <a:ext cx="1215360" cy="121500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4" name="Прямая со стрелкой 19"/>
          <p:cNvCxnSpPr/>
          <p:nvPr/>
        </p:nvCxnSpPr>
        <p:spPr>
          <a:xfrm flipH="1">
            <a:off x="4570200" y="4501800"/>
            <a:ext cx="360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5" name="Прямая со стрелкой 21"/>
          <p:cNvCxnSpPr/>
          <p:nvPr/>
        </p:nvCxnSpPr>
        <p:spPr>
          <a:xfrm flipH="1">
            <a:off x="5857200" y="4071600"/>
            <a:ext cx="1143720" cy="11437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09:09:02Z</dcterms:created>
  <dc:creator>Лидер</dc:creator>
  <dc:description/>
  <dc:language>en-US</dc:language>
  <cp:lastModifiedBy>USER</cp:lastModifiedBy>
  <dcterms:modified xsi:type="dcterms:W3CDTF">2013-03-30T15:55:16Z</dcterms:modified>
  <cp:revision>46</cp:revision>
  <dc:subject/>
  <dc:title>«Планирование   образовательного процесса с детьми в условиях реализации                       ФГТ»</dc:title>
</cp:coreProperties>
</file>