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2623-EC14-401F-B707-6BDAC77EA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24DD-5C13-4510-B010-05F4C8B3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62E1-42C8-4FA4-ADC4-BB63C14F8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092B-E496-418A-AC1F-354B0FD73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FDFE-76C7-4230-B158-14A8675F0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DD49-A652-4BBD-9AB4-EF4E35AC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1845-57C3-430B-B2B1-7BCCE96E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E3759-837A-42DD-B4F1-52A7ABEF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BDDAF-3A10-4277-9748-83445FDD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6282-8842-4C46-8C18-9CF31D7D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4D34-2BC3-43FC-B847-46F2D118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0ED2-EC12-4F42-A15B-CF80C520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4505-62AC-4F3C-BEF3-CFC5AAFE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A2AE-6049-4648-9034-ACA60D8A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0AEC-A2BB-4AEE-AFFC-9D6E6446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351B-6213-4C61-833F-EEBA06E80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879F-525B-4165-86C3-3511DEAE0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A4E014-08D4-4776-AB79-A2137E72A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0092B9-C8F2-4C36-9A18-21BE0D5F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6EF8DA-F01F-4DF5-8B0E-09FDEB1A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DD5034-5DE0-4CF0-9BD1-2596BD86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5D4288-0EFF-4D25-B95B-D4C7A0A4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A520-67ED-4746-87D9-CBD6C497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0DE947-D481-4014-B01A-A0653F4D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4A32A4-8A97-48AD-BB71-B980D3D0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D4468D-A602-437E-A724-780300D3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706F89-6BE9-464B-9450-AA64B0AA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ED2187-50CD-4091-8B6A-D26D2C59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693464-D093-4ECA-B98A-AF5DC9F7A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4775F6-C897-40E8-8D6D-6BCE0927F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91D41-20E4-4220-8A96-B39CE992B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2C273-2B46-430E-85E5-B5A72181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71D2A-16F4-4B11-A9A2-D1F6822A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48FD-83B6-463D-8091-31277B0C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D2747-90A9-4F3E-AB64-92D15050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8C142-4997-45CF-AEDB-3244D71F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DDBFF-871D-4C78-8EC6-D2F9B4EC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BF395-3788-4090-90C2-38C73E25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8A8A3-155E-416F-8718-4BBA1B25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7966E-E738-420E-9630-6C1F7426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FEEE3-75AB-4A5B-9E38-54524064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9C4BE-50F6-474E-8BA5-5E03F1A90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88A2E-967B-48B7-A912-C231F024F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673D50-8EB3-4D77-AA94-64E8705B3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2947-5FDC-42E8-B682-E9A86594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2487C4-3280-4DA7-836A-9A334095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09262E-4AA9-42A0-8296-EEACD2B2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D6439E-DB4C-4395-8119-87C5A5B8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68B08D-D7FA-4930-A5F3-33B5AC81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4D8094-B4DD-4186-9815-7086C982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D8320B-606F-4C84-925F-B41D8718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0E120E-9604-4FC4-BBC5-8F47CFB3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BA3EAC-B7CA-4318-B536-6EF4EEDC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85B569-587C-4413-9D5C-1ABAB592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358563-C837-444D-A461-3C93CC32E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FFD9-3D7B-45A9-932B-1701943C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C722AC-7B13-4534-B4B0-8F46496E9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33CFFB-0368-4B1D-9071-ED2FFA233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22B197-1F05-4147-9B8A-B38D0D4C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04C70F-AC19-4E66-9A86-E7F2183B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8EA3F5-8B84-401A-B3F2-5E2C67B7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EA6EBA-89B1-41C3-AC81-6C478113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ABF5DD-0D80-4747-9096-79EB168D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7685E5-0680-4551-BC94-B1C86383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C27793-4368-40A6-A1A6-9BDA8E49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6BDE11-BE86-48A0-BB5A-E75FCF79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F884-D34C-4405-8B82-280A93AC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992812-76CB-449E-8044-D9DB3981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290DEA-F3AA-4DCA-BD1F-A8CFDC0FC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8ADE3A-A983-43A5-AF23-8897E71A5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4113E5-997B-42A5-829C-E7625B5D7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27C935-B44A-48D0-886F-3B71F3B2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2315A4-1E08-4829-A8AF-00246B50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916F53-BE31-4994-9690-CADE7E63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30DC45-BEE1-49FA-A954-13837F30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52A6A2-F891-42A3-9B0A-61DD4F2D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06FA2D-11FA-4EB3-B0BC-69B263B7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BD87-9405-405E-98FA-BF6B3539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3015AE-23DA-4CE3-9092-5A8B0E1D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D38574-623D-40AF-B4F0-D01A5F46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3DFF18-E23C-476A-B4C9-50F7C539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C7168C-6E2F-49BD-948B-2058150C4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8B8083-CBB3-4CED-99C5-3B39193E3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E940-B078-4426-8693-00E426C4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4E85-3A7A-4809-924F-BB38FD07EAA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6c0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9d8c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9d8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cec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6c0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cec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6c0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6c0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A776-03EF-4EA6-B464-C6CC649F51C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0574-ECD2-4C2E-85AF-65AE6C99BC7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6c0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9d8c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9d8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cec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6c0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cec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6c0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6c0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3ded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3ded1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ded1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ded1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5563-B3CD-483C-87C2-4310445C1D0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3C56-56F5-431E-BACC-5502E49803F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C7CD-BDFC-497F-8E48-E2502B76462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D4CF-62AC-4CF8-A97C-8AFDB7A18B4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Заголовок 1" descr=""/>
          <p:cNvPicPr/>
          <p:nvPr/>
        </p:nvPicPr>
        <p:blipFill>
          <a:blip r:embed="rId1"/>
          <a:stretch/>
        </p:blipFill>
        <p:spPr>
          <a:xfrm>
            <a:off x="1974960" y="360360"/>
            <a:ext cx="6894360" cy="31258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" descr=""/>
          <p:cNvPicPr/>
          <p:nvPr/>
        </p:nvPicPr>
        <p:blipFill>
          <a:blip r:embed="rId2"/>
          <a:stretch/>
        </p:blipFill>
        <p:spPr>
          <a:xfrm>
            <a:off x="3203640" y="2997360"/>
            <a:ext cx="3786120" cy="3295440"/>
          </a:xfrm>
          <a:prstGeom prst="rect">
            <a:avLst/>
          </a:prstGeom>
          <a:ln w="0">
            <a:noFill/>
          </a:ln>
        </p:spPr>
      </p:pic>
      <p:sp>
        <p:nvSpPr>
          <p:cNvPr id="353" name="Прямоугольник 3"/>
          <p:cNvSpPr/>
          <p:nvPr/>
        </p:nvSpPr>
        <p:spPr>
          <a:xfrm>
            <a:off x="6156360" y="5950080"/>
            <a:ext cx="2987640" cy="76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5f07"/>
                </a:solidFill>
                <a:latin typeface="Century Schoolbook"/>
              </a:rPr>
              <a:t>Блейхер Жанна Андре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5f07"/>
                </a:solidFill>
                <a:latin typeface="Century Schoolbook"/>
              </a:rPr>
              <a:t>старший воспита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5f07"/>
                </a:solidFill>
                <a:latin typeface="Century Schoolbook"/>
              </a:rPr>
              <a:t>МБДОУ «ЦРР – детский сад №41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23232"/>
                </a:solidFill>
                <a:latin typeface="Century Schoolbook"/>
              </a:rPr>
              <a:t>ТЕРМИН «ПЛАН» ТРАКТУЕТСЯ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к система взаимосвязанных, направленных на достижение единой цели плановых заданий, определяющих порядок, сроки и последовательность осуществления программ, работ или отдельных мероприятий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пособ кратко (или полно) зафиксировать целевые ориентиры, познавательные задачи, программное содержание, последовательность организации и проведения образовательной деятельности с детьм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499680"/>
            <a:ext cx="74674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ПО ВИДАМ ПЛАНЫ ДЕЛЯТСЯ </a:t>
            </a:r>
            <a:endParaRPr b="0" lang="en-US" sz="32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28400" y="1000080"/>
            <a:ext cx="746748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Прямоугольник 3"/>
          <p:cNvSpPr/>
          <p:nvPr/>
        </p:nvSpPr>
        <p:spPr>
          <a:xfrm>
            <a:off x="2143080" y="1285920"/>
            <a:ext cx="4286160" cy="91440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4"/>
          <p:cNvSpPr/>
          <p:nvPr/>
        </p:nvSpPr>
        <p:spPr>
          <a:xfrm>
            <a:off x="3232800" y="135720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ерспектив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5"/>
          <p:cNvSpPr/>
          <p:nvPr/>
        </p:nvSpPr>
        <p:spPr>
          <a:xfrm>
            <a:off x="2143080" y="2643120"/>
            <a:ext cx="4286160" cy="91440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Комплексно-тема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6"/>
          <p:cNvSpPr/>
          <p:nvPr/>
        </p:nvSpPr>
        <p:spPr>
          <a:xfrm>
            <a:off x="2214720" y="4214880"/>
            <a:ext cx="4214520" cy="91440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Календа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ая соединительная линия 10"/>
          <p:cNvSpPr/>
          <p:nvPr/>
        </p:nvSpPr>
        <p:spPr>
          <a:xfrm flipV="1">
            <a:off x="1071720" y="785520"/>
            <a:ext cx="0" cy="4071960"/>
          </a:xfrm>
          <a:prstGeom prst="line">
            <a:avLst/>
          </a:prstGeom>
          <a:ln w="12600">
            <a:solidFill>
              <a:srgbClr val="ff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5" name="Прямая со стрелкой 16"/>
          <p:cNvCxnSpPr/>
          <p:nvPr/>
        </p:nvCxnSpPr>
        <p:spPr>
          <a:xfrm>
            <a:off x="1071360" y="1714680"/>
            <a:ext cx="857880" cy="21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86" name="Прямая со стрелкой 18"/>
          <p:cNvCxnSpPr/>
          <p:nvPr/>
        </p:nvCxnSpPr>
        <p:spPr>
          <a:xfrm>
            <a:off x="1071720" y="2999880"/>
            <a:ext cx="786240" cy="252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87" name="Прямая со стрелкой 20"/>
          <p:cNvCxnSpPr/>
          <p:nvPr/>
        </p:nvCxnSpPr>
        <p:spPr>
          <a:xfrm>
            <a:off x="1071720" y="4857840"/>
            <a:ext cx="786240" cy="21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sp>
        <p:nvSpPr>
          <p:cNvPr id="388" name="Прямая соединительная линия 22"/>
          <p:cNvSpPr/>
          <p:nvPr/>
        </p:nvSpPr>
        <p:spPr>
          <a:xfrm flipH="1" flipV="1">
            <a:off x="1071360" y="785880"/>
            <a:ext cx="571320" cy="1440"/>
          </a:xfrm>
          <a:prstGeom prst="line">
            <a:avLst/>
          </a:prstGeom>
          <a:ln w="12600">
            <a:solidFill>
              <a:srgbClr val="ff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ая соединительная линия 25"/>
          <p:cNvSpPr/>
          <p:nvPr/>
        </p:nvSpPr>
        <p:spPr>
          <a:xfrm flipH="1">
            <a:off x="7429680" y="785880"/>
            <a:ext cx="1440" cy="4073400"/>
          </a:xfrm>
          <a:prstGeom prst="line">
            <a:avLst/>
          </a:prstGeom>
          <a:ln w="12600">
            <a:solidFill>
              <a:srgbClr val="ff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ая соединительная линия 28"/>
          <p:cNvSpPr/>
          <p:nvPr/>
        </p:nvSpPr>
        <p:spPr>
          <a:xfrm flipH="1" flipV="1">
            <a:off x="6858000" y="785880"/>
            <a:ext cx="571680" cy="1440"/>
          </a:xfrm>
          <a:prstGeom prst="line">
            <a:avLst/>
          </a:prstGeom>
          <a:ln w="12600">
            <a:solidFill>
              <a:srgbClr val="ff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1" name="Прямая со стрелкой 32"/>
          <p:cNvCxnSpPr/>
          <p:nvPr/>
        </p:nvCxnSpPr>
        <p:spPr>
          <a:xfrm flipH="1" flipV="1">
            <a:off x="6714360" y="1714320"/>
            <a:ext cx="715320" cy="21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92" name="Прямая со стрелкой 37"/>
          <p:cNvCxnSpPr/>
          <p:nvPr/>
        </p:nvCxnSpPr>
        <p:spPr>
          <a:xfrm flipH="1" flipV="1">
            <a:off x="6714360" y="2999520"/>
            <a:ext cx="715320" cy="252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93" name="Прямая со стрелкой 43"/>
          <p:cNvCxnSpPr/>
          <p:nvPr/>
        </p:nvCxnSpPr>
        <p:spPr>
          <a:xfrm flipH="1" flipV="1">
            <a:off x="6714360" y="4857480"/>
            <a:ext cx="715320" cy="21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3232"/>
                </a:solidFill>
                <a:latin typeface="Century Schoolbook"/>
              </a:rPr>
              <a:t>СЛАБЫЕ СТОРОНЫ ПЕРСПЕКТИВНОГО ПЛАНИРОВАНИЯ</a:t>
            </a:r>
            <a:r>
              <a:rPr b="0" lang="ru-RU" sz="3000" spc="-1" strike="noStrike">
                <a:solidFill>
                  <a:srgbClr val="323232"/>
                </a:solidFill>
                <a:latin typeface="Century Schoolbook"/>
              </a:rPr>
              <a:t>: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ерспективное планирование, в отсутствии календарного (комплексно – тематического) плана, не раскрывает содержания деятельности, методические приемы, не конкретизирует дидактическое обеспечение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не всегда позволяет равномерно распределить деятельность по ее видам в течение определенного отрезка времени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избежать прецедента дополнительной нагрузки на детей или ее необоснованного отсутствия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затрудняет осуществление методического контроля над выполнением планируемых мероприятий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23232"/>
                </a:solidFill>
                <a:latin typeface="Century Schoolbook"/>
              </a:rPr>
              <a:t>КОМПЛЕКСНО – ТЕМАТИЧЕСКИЙ ПЛАН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6840" y="999720"/>
            <a:ext cx="74674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разовательным содержанием комплексно-тематического план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ются событ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зволяющие дошкольнику успешно «ориентироваться в четырех мирах действительности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е живой и неживой природ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творном мире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е общественных (социальных отношений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е собственной внутренней жизнедеятельности» (Концепция дошкольного воспитания)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6840" y="857160"/>
            <a:ext cx="7467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 разработке комплексно – тематического плана педагогом выделяются основные «узловые» темы. Темы занятий «многослойны», т. е. они повторяются с определенным усложнением в каждой возрастной группе. Возвращение к теме в иных педагогических условиях, на другом содержании, возрастном уровне развития помогают ребенку успешно освоить информацию, овладеть новыми способами общения и познания окружающего мира, формирует компетентность как особую «практическую умелость, опыт» при решении несложных жизненных ситуаций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о – тематический план может составляться воспитателем при участии специалистов ДОУ, которые на своих занятиях творчески обогащают и дополняют возможности детей, добиваясь при интеграции высоких образовательных эффектов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6840" y="713880"/>
            <a:ext cx="7467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тематического содержания, определение форм работы по его реализации и интеграции осуществляется педагогом на месяц. Основным принципом при подборе содержания являются образовательные области и решение их основных задач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323232"/>
                </a:solidFill>
                <a:latin typeface="Century Schoolbook"/>
              </a:rPr>
              <a:t>СОДЕРЖАНИЕ КАЛЕНДАРНОГО ПЛАНА СТРУКТУРИРУЕТСЯ ПО БЛОКАМ И ПРЕДСТАВЛЯЕТСЯ В ВИДЕ СХЕМЫ.</a:t>
            </a:r>
            <a:endParaRPr b="0" lang="en-US" sz="25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Образовательный блок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(сетка занятий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Блок совместной деятельности взрослого и дете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Блок самостоятельной деятельности детей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9680" y="142920"/>
            <a:ext cx="792972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КАЛЕНДАРНОЕ  ПЛАНИРОВАНИЕ  ВОСПИТАТЕЛЬНО-ОБРАЗОВАТЕЛЬНОЙ РАБОТЫ</a:t>
            </a:r>
            <a:br>
              <a:rPr sz="1200"/>
            </a:br>
            <a:r>
              <a:rPr b="1" lang="ru-RU" sz="1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           НА ПЕРИОД:__________________________________________, ГРУППА:_____________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ТЕМА:_________________________________________________________________________________________</a:t>
            </a:r>
            <a:br>
              <a:rPr sz="1200"/>
            </a:br>
            <a:r>
              <a:rPr b="0" lang="ru-RU" sz="1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ЦЕЛЬ:_______________________________________________________________________________________</a:t>
            </a:r>
            <a:br>
              <a:rPr sz="1200"/>
            </a:b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ИТОГОВОЕ</a:t>
            </a:r>
            <a:r>
              <a:rPr b="0" lang="en-US" sz="1200" spc="-1" strike="noStrike">
                <a:solidFill>
                  <a:srgbClr val="323232"/>
                </a:solidFill>
                <a:latin typeface="Century Schoolbook"/>
              </a:rPr>
              <a:t>     </a:t>
            </a: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МЕРОПРИЯТИЕ:________________________________________________ДАТА:____</a:t>
            </a:r>
            <a:br>
              <a:rPr sz="1200"/>
            </a:br>
            <a:endParaRPr b="0" lang="en-US" sz="1200" spc="-1" strike="noStrike">
              <a:solidFill>
                <a:srgbClr val="323232"/>
              </a:solidFill>
              <a:latin typeface="Century Schoolbook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357120" y="1928880"/>
          <a:ext cx="8286840" cy="4572000"/>
        </p:xfrm>
        <a:graphic>
          <a:graphicData uri="http://schemas.openxmlformats.org/drawingml/2006/table">
            <a:tbl>
              <a:tblPr/>
              <a:tblGrid>
                <a:gridCol w="689040"/>
                <a:gridCol w="574560"/>
                <a:gridCol w="719280"/>
                <a:gridCol w="1386000"/>
                <a:gridCol w="172800"/>
                <a:gridCol w="1559160"/>
                <a:gridCol w="1460520"/>
                <a:gridCol w="1725480"/>
              </a:tblGrid>
              <a:tr h="374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ни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 недел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жи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тегра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р. обл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вместная деятельность детей  с воспитател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я развивающей среды для самостоятельной детской деятель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заимодей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в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 род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70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руппов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9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р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.т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.худ.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ренняя гимнас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ьчиковая гимнас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журство по столово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 в уголке прир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итие к.г.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 в центре активности по интерес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беседы по запросам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506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ул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ение з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туативная бесе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овое поруч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 с природным  и выносным материал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77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перед сн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сказки перед сн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лушивание спокойной музы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итие КГ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 «Усыплялочки»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лакс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оловина дня, вече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мнастика в постели, ходьба по массажной дорожке, водные процеду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материалов к занятию, атрибутов к инр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23232"/>
                </a:solidFill>
                <a:latin typeface="Century Schoolbook"/>
              </a:rPr>
              <a:t>ОБРАЗОВАТЕЛЬНАЯ ДЕЯТЕЛЬНОСТЬ В ХОДЕ РЕЖИМНЫХ МОМЕНТОВ 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 планировании образовательного содержания в ходе режимных моментов целесообразно использовать циклограмму, позволяющую педагогу установить «разумный баланс» между видами образовательной деятельности, амплифицировать развитие детей по основным направлениям: физическому, социально-личностному, познавательно-речевому и художественно-эстетическом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500040" y="2506680"/>
            <a:ext cx="7215120" cy="4351320"/>
          </a:xfrm>
          <a:prstGeom prst="rect">
            <a:avLst/>
          </a:prstGeom>
          <a:ln w="0">
            <a:noFill/>
          </a:ln>
        </p:spPr>
      </p:pic>
      <p:pic>
        <p:nvPicPr>
          <p:cNvPr id="355" name="Заголовок 1" descr=""/>
          <p:cNvPicPr/>
          <p:nvPr/>
        </p:nvPicPr>
        <p:blipFill>
          <a:blip r:embed="rId2"/>
          <a:stretch/>
        </p:blipFill>
        <p:spPr>
          <a:xfrm>
            <a:off x="55440" y="49320"/>
            <a:ext cx="852192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6840" y="571680"/>
            <a:ext cx="782964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b45f07"/>
                </a:solidFill>
                <a:latin typeface="Arial"/>
                <a:ea typeface="Arial"/>
              </a:rPr>
              <a:t>Благодарю </a:t>
            </a:r>
            <a:endParaRPr b="0" lang="en-US" sz="8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b45f07"/>
                </a:solidFill>
                <a:latin typeface="Arial"/>
                <a:ea typeface="Arial"/>
              </a:rPr>
              <a:t>за внимание</a:t>
            </a:r>
            <a:endParaRPr b="0" lang="en-US" sz="8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8" name="Picture 1" descr=""/>
          <p:cNvPicPr/>
          <p:nvPr/>
        </p:nvPicPr>
        <p:blipFill>
          <a:blip r:embed="rId1"/>
          <a:stretch/>
        </p:blipFill>
        <p:spPr>
          <a:xfrm>
            <a:off x="3571920" y="3286080"/>
            <a:ext cx="378612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Rectangle 2" descr=""/>
          <p:cNvPicPr/>
          <p:nvPr/>
        </p:nvPicPr>
        <p:blipFill>
          <a:blip r:embed="rId1"/>
          <a:stretch/>
        </p:blipFill>
        <p:spPr>
          <a:xfrm>
            <a:off x="401760" y="669960"/>
            <a:ext cx="807228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456840" y="571320"/>
            <a:ext cx="746748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Задачи планирования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беспечение целенаправленного развития образовательных областей образовательной программы, их интеграции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оздание базы для осуществления контроля за ОП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едоставление информации об организации деятельности возрастной группы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еализацию новых форм взаимодействия с детьми, родителями в структуре планировани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ПЛАНИРОВАНИЕ ОТРАЖАЕТ</a:t>
            </a:r>
            <a:br>
              <a:rPr sz="3600"/>
            </a:br>
            <a:endParaRPr b="0" lang="en-US" sz="36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од реализации основной образовательной программы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пецифику и развитие приоритетных направлений деятельности ДОУ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станавливает связи между занятиями, игрой и трудом детей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од и результаты реализуемых творческих проект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456840" y="928440"/>
            <a:ext cx="7467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Закон РФ «Об образовании» (пункт 6.2 статьи 9)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иказ министерства образования и науки РФ от 23.11.2009 г. №655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Утверждены ФГТ к структуре основной общеобразовательной программы ДО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оложения ФГТ являются основой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труктуры планирования образовательной деятельност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56840" y="428760"/>
            <a:ext cx="746748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Программа должна основываться на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омплексно-тематическом принципе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строения образовательного процесса…»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Программа должна…предусматривать решение образовательных задач в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овместной деятельности взрослого и детей и самостоятельной деятельности детей не только в рамках НОД, но и при проведении режимных моментов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…»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Программа должна… предполагать построение образовательного процесса на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адекватных возрасту формах работы с деть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456840" y="428760"/>
            <a:ext cx="746748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Примерами построения образовательного процесса по комплексно-тематическому принципу служат вариативные программы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мерная основная общеобразовательная программа дошкольного образования «Успех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От рождения до школы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грамма «Золотой ключик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грамма «Сообщество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56840" y="214200"/>
            <a:ext cx="7467480" cy="625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Овал 4"/>
          <p:cNvSpPr/>
          <p:nvPr/>
        </p:nvSpPr>
        <p:spPr>
          <a:xfrm flipV="1" rot="10800000">
            <a:off x="2286000" y="928800"/>
            <a:ext cx="4500720" cy="164304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Комплексно-тематический принцип построения 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Овал 5"/>
          <p:cNvSpPr/>
          <p:nvPr/>
        </p:nvSpPr>
        <p:spPr>
          <a:xfrm>
            <a:off x="1357200" y="3071880"/>
            <a:ext cx="1285920" cy="9144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Овал 6"/>
          <p:cNvSpPr/>
          <p:nvPr/>
        </p:nvSpPr>
        <p:spPr>
          <a:xfrm>
            <a:off x="3857760" y="3500280"/>
            <a:ext cx="1357200" cy="9144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7"/>
          <p:cNvSpPr/>
          <p:nvPr/>
        </p:nvSpPr>
        <p:spPr>
          <a:xfrm>
            <a:off x="6429240" y="3071880"/>
            <a:ext cx="1214640" cy="9144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8"/>
          <p:cNvSpPr/>
          <p:nvPr/>
        </p:nvSpPr>
        <p:spPr>
          <a:xfrm>
            <a:off x="3842280" y="28584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 осн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9" name="Прямая со стрелкой 10"/>
          <p:cNvCxnSpPr/>
          <p:nvPr/>
        </p:nvCxnSpPr>
        <p:spPr>
          <a:xfrm flipH="1">
            <a:off x="2356560" y="2428560"/>
            <a:ext cx="429480" cy="57204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70" name="Прямая со стрелкой 12"/>
          <p:cNvCxnSpPr/>
          <p:nvPr/>
        </p:nvCxnSpPr>
        <p:spPr>
          <a:xfrm flipH="1">
            <a:off x="4570200" y="2643120"/>
            <a:ext cx="3600" cy="64332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71" name="Прямая со стрелкой 14"/>
          <p:cNvCxnSpPr/>
          <p:nvPr/>
        </p:nvCxnSpPr>
        <p:spPr>
          <a:xfrm>
            <a:off x="6143760" y="2428560"/>
            <a:ext cx="429120" cy="5007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sp>
        <p:nvSpPr>
          <p:cNvPr id="372" name="Овал 15"/>
          <p:cNvSpPr/>
          <p:nvPr/>
        </p:nvSpPr>
        <p:spPr>
          <a:xfrm>
            <a:off x="2500200" y="5143680"/>
            <a:ext cx="4214880" cy="9144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интег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Прямая со стрелкой 17"/>
          <p:cNvCxnSpPr/>
          <p:nvPr/>
        </p:nvCxnSpPr>
        <p:spPr>
          <a:xfrm>
            <a:off x="2000160" y="4000320"/>
            <a:ext cx="1215360" cy="121500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74" name="Прямая со стрелкой 19"/>
          <p:cNvCxnSpPr/>
          <p:nvPr/>
        </p:nvCxnSpPr>
        <p:spPr>
          <a:xfrm flipH="1">
            <a:off x="4570200" y="4501800"/>
            <a:ext cx="3600" cy="5007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75" name="Прямая со стрелкой 21"/>
          <p:cNvCxnSpPr/>
          <p:nvPr/>
        </p:nvCxnSpPr>
        <p:spPr>
          <a:xfrm flipH="1">
            <a:off x="5857200" y="4071600"/>
            <a:ext cx="1143720" cy="114372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6T09:09:02Z</dcterms:created>
  <dc:creator>Лидер</dc:creator>
  <dc:description/>
  <dc:language>en-US</dc:language>
  <cp:lastModifiedBy>USER</cp:lastModifiedBy>
  <dcterms:modified xsi:type="dcterms:W3CDTF">2013-03-30T15:55:16Z</dcterms:modified>
  <cp:revision>46</cp:revision>
  <dc:subject/>
  <dc:title>«Планирование   образовательного процесса с детьми в условиях реализации                       ФГТ»</dc:title>
</cp:coreProperties>
</file>