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06EAE-E478-4AF7-BBFB-55DD962DC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B430A-02EE-4B7D-AAA4-F77D4CB4B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B189D-CC0C-40B4-ADB9-FD371C34C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A4D7B-C5B0-421D-A04F-A843A5DA2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CAA6C-BA3F-44E3-BB71-0123A73E0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93EDA-FA20-4E0D-8F4F-497465FFB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3CE65-38AF-40B6-A1E8-CD0FE8E26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1E45C-5A65-4C6A-91C4-A22F4FC38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03EB3-8105-452A-A316-4D72B5F0B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F9284-D7AD-48CB-BCC8-3A0699656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B625E-1DF8-470C-B434-CAE34A909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ED8B2-BCAD-401A-BC77-9D9F62227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7B4B3-5942-4ADF-B68B-0259CE518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E12CE-390C-4E5B-BA38-105721A17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0BBEA-A947-4DFA-BDF1-C3FF0904A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5A9AB-AA9E-462C-9761-29C8CBB32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447C1-3604-4635-A746-4B46A2E93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18F71A1-3B4F-455B-9D50-962365C3A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FA201E0-5D00-4E9C-8E69-910C588DD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5D12E4C-1D99-461B-8230-C8CC67F0C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FD28A6-4F38-42B2-B30B-940A8654E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4BE2AB3-5E51-4DFA-AC92-CDEEAC6CD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A3286-81AE-40BC-A7C7-0233DAC96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DE4361A-4599-4603-B9DD-9D96CF79E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646D8A-F051-4DEB-B096-3EFD9481D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757F533-9651-42C3-89ED-0455A467D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5558135-9A02-4A36-8E10-D632FFD08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1F41818-7662-43CB-BFBE-6DF071DFD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9C9CE20-027C-466A-8E96-9FB99609F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B2E82F0-8121-41B6-B01E-9D8D48C5C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1569BD-BA47-451C-A1F1-6F76420BF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4A8D16-D619-4AA8-AC2F-CABBEFB51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C0134E-F552-4424-ADB9-A5D802801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ECC90-E138-4F89-B47D-C5390AAB3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AF8C2E-1F23-4AB2-B488-1DCFCC984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F56F0F-6BF3-47DB-965C-96B7BE9A0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350225-01B2-4363-B2CD-C468C385B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A4DCBB-7F07-4E65-BEEC-33F614F0F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D99E89-CD26-4257-82B5-A51C4EA46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21901E-C0E3-46FB-96ED-69B71049C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560FC8-CE5B-4787-A072-61E84F1F9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C9A3FC-56E2-4384-8B33-E63756CAF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055590-EBDB-4F52-B0B4-4B4A5F2CC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03D6E2E-9158-491D-AF48-225BF2AD7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D2D5B-A9BB-4CB7-B00B-62C491FD1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F859B55-863A-4FB3-B833-F28F64F9A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3160491-0B48-4445-88D3-D7EE1DA96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E357CC0-B7C1-47D8-9ADF-5832EFD0F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71021EA-9C01-4BE9-9446-67D8E9171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4889FD8-BD7D-4BAF-82D3-774BF153E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7AF22AE-AE03-4D2F-920C-86932CFFF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3F35B43-AA8F-4B4B-9977-13D936AFF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591A5A7-1A98-4523-8BAA-B6670E4C4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68230BA-63E1-4B9E-B366-FD4774299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A866E2C-E335-4629-97F2-E2034C745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E5420-1153-46D7-ABA3-35258EF7E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CB5F800-BFED-41CB-BC07-6796B380F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E97DA5B-3B38-4EC6-A193-F69F988E7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2840248-977F-42F6-8343-FFEC496A5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02FDD6F-E273-40FE-BD21-B724A8B85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D8EB984-3A13-4798-B3D6-4374ED0F6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34D5D22-586B-4B04-9E99-1986C7E58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47EF009-B85D-400A-AF4E-006602DA7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BC48EFF-8BB2-4CBE-945E-B50DAE53C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7E4E402-6BC3-471F-B231-76EAA25EF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216E00D-1F5E-4D60-8F73-167875A0F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B177C-DD07-4DE1-94B2-2A7F36D41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F7BFEF5-56B2-400E-AB26-550402C75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18F64EF-0DE4-4341-9373-F84315875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04EAA82-F3E8-4D1A-95D2-D1FD28116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6608F66-FEC1-4F51-AD8A-93AD530B1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1062E80-5A6E-42B7-BE3E-FE6C12BC2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5CFED7F-DA9A-4B79-8514-1831802D7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C3F3EAB-8828-41B6-976B-70DE09ACC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B95C41C-0C61-408B-A350-8BEC47F75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FEE1535-5851-4C34-90C4-10017DC28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4C0281E-596E-414E-B300-AC65C3941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7F497-3A0F-4EC6-BDA1-053067EB3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4BFCE51-6197-4DF9-A839-9C7B27803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B267E4F-EDFC-4CB2-8E33-C2664005D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1271B87-CB1A-4924-8218-4EF54FFBA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B1530DF-87DD-4F79-9D94-A792067E7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F9A75E1-08D7-4243-915E-804366E9D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40DF5-71BA-4497-8BB5-3A5D13E3E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6c0aa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23232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d36f07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6c0aa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cdaca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23232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23232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6c0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6c0aa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C65D5-F939-4568-BFAD-497B121FF459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6c0aa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9d8cc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9d8cc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cece7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6c0aa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cece7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6c0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6c0aa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6c0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6c0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6c0aa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23232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d36f07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6c0aa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cdaca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23232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23232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92DBC-E9BF-4EC3-9C98-78A456590F27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6c0aa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6c0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6c0aa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23232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d36f07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6c0aa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cdaca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23232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23232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4AFEB-CAC0-4EAB-BFCF-B4668D4605ED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2323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6c0aa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9d8cc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9d8cc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cece7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6c0aa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cece7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6c0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6c0aa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6c0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6c0aa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6c0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3ded1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e3ded1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d36f07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6c0aa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cdaca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3ded1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3ded1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1477C-DFD6-4EEB-B982-47A5164914ED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6c0aa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6c0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6c0aa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23232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d36f07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6c0aa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cdaca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23232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23232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FDC18-E06A-4F46-8DF9-C89D6E5B9A82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6c0aa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6c0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6c0aa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23232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d36f07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6c0aa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cdaca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23232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23232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93061-E7E5-40CF-A5F6-5DCF9D5B587B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6c0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6c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6c0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23232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d36f07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6c0aa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cdaca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23232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23232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C9DB3-D08F-4973-AFF2-3F1A858774C9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Заголовок 1" descr=""/>
          <p:cNvPicPr/>
          <p:nvPr/>
        </p:nvPicPr>
        <p:blipFill>
          <a:blip r:embed="rId1"/>
          <a:stretch/>
        </p:blipFill>
        <p:spPr>
          <a:xfrm>
            <a:off x="1974960" y="360360"/>
            <a:ext cx="6894360" cy="312588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1" descr=""/>
          <p:cNvPicPr/>
          <p:nvPr/>
        </p:nvPicPr>
        <p:blipFill>
          <a:blip r:embed="rId2"/>
          <a:stretch/>
        </p:blipFill>
        <p:spPr>
          <a:xfrm>
            <a:off x="3203640" y="2997360"/>
            <a:ext cx="3786120" cy="3295440"/>
          </a:xfrm>
          <a:prstGeom prst="rect">
            <a:avLst/>
          </a:prstGeom>
          <a:ln w="0">
            <a:noFill/>
          </a:ln>
        </p:spPr>
      </p:pic>
      <p:sp>
        <p:nvSpPr>
          <p:cNvPr id="353" name="Прямоугольник 3"/>
          <p:cNvSpPr/>
          <p:nvPr/>
        </p:nvSpPr>
        <p:spPr>
          <a:xfrm>
            <a:off x="6156360" y="5950080"/>
            <a:ext cx="2987640" cy="7696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45f07"/>
                </a:solidFill>
                <a:latin typeface="Century Schoolbook"/>
              </a:rPr>
              <a:t>Блейхер Жанна Андреев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45f07"/>
                </a:solidFill>
                <a:latin typeface="Century Schoolbook"/>
              </a:rPr>
              <a:t>старший воспитате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45f07"/>
                </a:solidFill>
                <a:latin typeface="Century Schoolbook"/>
              </a:rPr>
              <a:t>МБДОУ «ЦРР – детский сад №41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323232"/>
                </a:solidFill>
                <a:latin typeface="Century Schoolbook"/>
              </a:rPr>
              <a:t>ТЕРМИН «ПЛАН» ТРАКТУЕТСЯ</a:t>
            </a: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как система взаимосвязанных, направленных на достижение единой цели плановых заданий, определяющих порядок, сроки и последовательность осуществления программ, работ или отдельных мероприятий;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способ кратко (или полно) зафиксировать целевые ориентиры, познавательные задачи, программное содержание, последовательность организации и проведения образовательной деятельности с детьми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6840" y="499680"/>
            <a:ext cx="746748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23232"/>
                </a:solidFill>
                <a:latin typeface="Times New Roman"/>
                <a:ea typeface="Times New Roman"/>
              </a:rPr>
              <a:t>ПО ВИДАМ ПЛАНЫ ДЕЛЯТСЯ </a:t>
            </a:r>
            <a:endParaRPr b="0" lang="en-US" sz="32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428400" y="1000080"/>
            <a:ext cx="7467480" cy="540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0" name="Прямоугольник 3"/>
          <p:cNvSpPr/>
          <p:nvPr/>
        </p:nvSpPr>
        <p:spPr>
          <a:xfrm>
            <a:off x="2143080" y="1285920"/>
            <a:ext cx="4286160" cy="914400"/>
          </a:xfrm>
          <a:prstGeom prst="rect">
            <a:avLst/>
          </a:prstGeom>
          <a:solidFill>
            <a:srgbClr val="f07f09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Box 4"/>
          <p:cNvSpPr/>
          <p:nvPr/>
        </p:nvSpPr>
        <p:spPr>
          <a:xfrm>
            <a:off x="3232800" y="1357200"/>
            <a:ext cx="209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Перспективны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Прямоугольник 5"/>
          <p:cNvSpPr/>
          <p:nvPr/>
        </p:nvSpPr>
        <p:spPr>
          <a:xfrm>
            <a:off x="2143080" y="2643120"/>
            <a:ext cx="4286160" cy="914400"/>
          </a:xfrm>
          <a:prstGeom prst="rect">
            <a:avLst/>
          </a:prstGeom>
          <a:solidFill>
            <a:srgbClr val="f07f09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Schoolbook"/>
              </a:rPr>
              <a:t>Комплексно-тематиче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Прямоугольник 6"/>
          <p:cNvSpPr/>
          <p:nvPr/>
        </p:nvSpPr>
        <p:spPr>
          <a:xfrm>
            <a:off x="2214720" y="4214880"/>
            <a:ext cx="4214520" cy="914400"/>
          </a:xfrm>
          <a:prstGeom prst="rect">
            <a:avLst/>
          </a:prstGeom>
          <a:solidFill>
            <a:srgbClr val="f07f09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Schoolbook"/>
              </a:rPr>
              <a:t>Календар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Прямая соединительная линия 10"/>
          <p:cNvSpPr/>
          <p:nvPr/>
        </p:nvSpPr>
        <p:spPr>
          <a:xfrm flipV="1">
            <a:off x="1071720" y="785520"/>
            <a:ext cx="0" cy="4071960"/>
          </a:xfrm>
          <a:prstGeom prst="line">
            <a:avLst/>
          </a:prstGeom>
          <a:ln w="12600">
            <a:solidFill>
              <a:srgbClr val="ff6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5" name="Прямая со стрелкой 16"/>
          <p:cNvCxnSpPr/>
          <p:nvPr/>
        </p:nvCxnSpPr>
        <p:spPr>
          <a:xfrm>
            <a:off x="1071360" y="1714680"/>
            <a:ext cx="857880" cy="2160"/>
          </a:xfrm>
          <a:prstGeom prst="straightConnector1">
            <a:avLst/>
          </a:prstGeom>
          <a:ln w="12600">
            <a:solidFill>
              <a:srgbClr val="ff6c00"/>
            </a:solidFill>
            <a:miter/>
            <a:tailEnd len="med" type="arrow" w="med"/>
          </a:ln>
        </p:spPr>
      </p:cxnSp>
      <p:cxnSp>
        <p:nvCxnSpPr>
          <p:cNvPr id="386" name="Прямая со стрелкой 18"/>
          <p:cNvCxnSpPr/>
          <p:nvPr/>
        </p:nvCxnSpPr>
        <p:spPr>
          <a:xfrm>
            <a:off x="1071720" y="2999880"/>
            <a:ext cx="786240" cy="2520"/>
          </a:xfrm>
          <a:prstGeom prst="straightConnector1">
            <a:avLst/>
          </a:prstGeom>
          <a:ln w="12600">
            <a:solidFill>
              <a:srgbClr val="ff6c00"/>
            </a:solidFill>
            <a:miter/>
            <a:tailEnd len="med" type="arrow" w="med"/>
          </a:ln>
        </p:spPr>
      </p:cxnSp>
      <p:cxnSp>
        <p:nvCxnSpPr>
          <p:cNvPr id="387" name="Прямая со стрелкой 20"/>
          <p:cNvCxnSpPr/>
          <p:nvPr/>
        </p:nvCxnSpPr>
        <p:spPr>
          <a:xfrm>
            <a:off x="1071720" y="4857840"/>
            <a:ext cx="786240" cy="2160"/>
          </a:xfrm>
          <a:prstGeom prst="straightConnector1">
            <a:avLst/>
          </a:prstGeom>
          <a:ln w="12600">
            <a:solidFill>
              <a:srgbClr val="ff6c00"/>
            </a:solidFill>
            <a:miter/>
            <a:tailEnd len="med" type="arrow" w="med"/>
          </a:ln>
        </p:spPr>
      </p:cxnSp>
      <p:sp>
        <p:nvSpPr>
          <p:cNvPr id="388" name="Прямая соединительная линия 22"/>
          <p:cNvSpPr/>
          <p:nvPr/>
        </p:nvSpPr>
        <p:spPr>
          <a:xfrm flipH="1" flipV="1">
            <a:off x="1071360" y="785880"/>
            <a:ext cx="571320" cy="1440"/>
          </a:xfrm>
          <a:prstGeom prst="line">
            <a:avLst/>
          </a:prstGeom>
          <a:ln w="12600">
            <a:solidFill>
              <a:srgbClr val="ff6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Прямая соединительная линия 25"/>
          <p:cNvSpPr/>
          <p:nvPr/>
        </p:nvSpPr>
        <p:spPr>
          <a:xfrm flipH="1">
            <a:off x="7429680" y="785880"/>
            <a:ext cx="1440" cy="4073400"/>
          </a:xfrm>
          <a:prstGeom prst="line">
            <a:avLst/>
          </a:prstGeom>
          <a:ln w="12600">
            <a:solidFill>
              <a:srgbClr val="ff6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Прямая соединительная линия 28"/>
          <p:cNvSpPr/>
          <p:nvPr/>
        </p:nvSpPr>
        <p:spPr>
          <a:xfrm flipH="1" flipV="1">
            <a:off x="6858000" y="785880"/>
            <a:ext cx="571680" cy="1440"/>
          </a:xfrm>
          <a:prstGeom prst="line">
            <a:avLst/>
          </a:prstGeom>
          <a:ln w="12600">
            <a:solidFill>
              <a:srgbClr val="ff6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1" name="Прямая со стрелкой 32"/>
          <p:cNvCxnSpPr/>
          <p:nvPr/>
        </p:nvCxnSpPr>
        <p:spPr>
          <a:xfrm flipH="1" flipV="1">
            <a:off x="6714360" y="1714320"/>
            <a:ext cx="715320" cy="2160"/>
          </a:xfrm>
          <a:prstGeom prst="straightConnector1">
            <a:avLst/>
          </a:prstGeom>
          <a:ln w="12600">
            <a:solidFill>
              <a:srgbClr val="ff6c00"/>
            </a:solidFill>
            <a:miter/>
            <a:tailEnd len="med" type="arrow" w="med"/>
          </a:ln>
        </p:spPr>
      </p:cxnSp>
      <p:cxnSp>
        <p:nvCxnSpPr>
          <p:cNvPr id="392" name="Прямая со стрелкой 37"/>
          <p:cNvCxnSpPr/>
          <p:nvPr/>
        </p:nvCxnSpPr>
        <p:spPr>
          <a:xfrm flipH="1" flipV="1">
            <a:off x="6714360" y="2999520"/>
            <a:ext cx="715320" cy="2520"/>
          </a:xfrm>
          <a:prstGeom prst="straightConnector1">
            <a:avLst/>
          </a:prstGeom>
          <a:ln w="12600">
            <a:solidFill>
              <a:srgbClr val="ff6c00"/>
            </a:solidFill>
            <a:miter/>
            <a:tailEnd len="med" type="arrow" w="med"/>
          </a:ln>
        </p:spPr>
      </p:cxnSp>
      <p:cxnSp>
        <p:nvCxnSpPr>
          <p:cNvPr id="393" name="Прямая со стрелкой 43"/>
          <p:cNvCxnSpPr/>
          <p:nvPr/>
        </p:nvCxnSpPr>
        <p:spPr>
          <a:xfrm flipH="1" flipV="1">
            <a:off x="6714360" y="4857480"/>
            <a:ext cx="715320" cy="2160"/>
          </a:xfrm>
          <a:prstGeom prst="straightConnector1">
            <a:avLst/>
          </a:prstGeom>
          <a:ln w="12600">
            <a:solidFill>
              <a:srgbClr val="ff6c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23232"/>
                </a:solidFill>
                <a:latin typeface="Century Schoolbook"/>
              </a:rPr>
              <a:t>СЛАБЫЕ СТОРОНЫ ПЕРСПЕКТИВНОГО ПЛАНИРОВАНИЯ</a:t>
            </a:r>
            <a:r>
              <a:rPr b="0" lang="ru-RU" sz="3000" spc="-1" strike="noStrike">
                <a:solidFill>
                  <a:srgbClr val="323232"/>
                </a:solidFill>
                <a:latin typeface="Century Schoolbook"/>
              </a:rPr>
              <a:t>:</a:t>
            </a: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перспективное планирование, в отсутствии календарного (комплексно – тематического) плана, не раскрывает содержания деятельности, методические приемы, не конкретизирует дидактическое обеспечение;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не всегда позволяет равномерно распределить деятельность по ее видам в течение определенного отрезка времени;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избежать прецедента дополнительной нагрузки на детей или ее необоснованного отсутствия;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затрудняет осуществление методического контроля над выполнением планируемых мероприятий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323232"/>
                </a:solidFill>
                <a:latin typeface="Century Schoolbook"/>
              </a:rPr>
              <a:t>КОМПЛЕКСНО – ТЕМАТИЧЕСКИЙ ПЛАН</a:t>
            </a: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456840" y="999720"/>
            <a:ext cx="746748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м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бразовательным содержанием комплексно-тематического плана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вляются событи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позволяющие дошкольнику успешно «ориентироваться в четырех мирах действительности: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ре живой и неживой природы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котворном мире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ре общественных (социальных отношений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ре собственной внутренней жизнедеятельности» (Концепция дошкольного воспитания)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456840" y="857160"/>
            <a:ext cx="746748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ри разработке комплексно – тематического плана педагогом выделяются основные «узловые» темы. Темы занятий «многослойны», т. е. они повторяются с определенным усложнением в каждой возрастной группе. Возвращение к теме в иных педагогических условиях, на другом содержании, возрастном уровне развития помогают ребенку успешно освоить информацию, овладеть новыми способами общения и познания окружающего мира, формирует компетентность как особую «практическую умелость, опыт» при решении несложных жизненных ситуаций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но – тематический план может составляться воспитателем при участии специалистов ДОУ, которые на своих занятиях творчески обогащают и дополняют возможности детей, добиваясь при интеграции высоких образовательных эффектов.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 txBox="1"/>
          <p:nvPr/>
        </p:nvSpPr>
        <p:spPr>
          <a:xfrm>
            <a:off x="456840" y="713880"/>
            <a:ext cx="746748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бор тематического содержания, определение форм работы по его реализации и интеграции осуществляется педагогом на месяц. Основным принципом при подборе содержания являются образовательные области и решение их основных задач.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323232"/>
                </a:solidFill>
                <a:latin typeface="Century Schoolbook"/>
              </a:rPr>
              <a:t>СОДЕРЖАНИЕ КАЛЕНДАРНОГО ПЛАНА СТРУКТУРИРУЕТСЯ ПО БЛОКАМ И ПРЕДСТАВЛЯЕТСЯ В ВИДЕ СХЕМЫ.</a:t>
            </a:r>
            <a:endParaRPr b="0" lang="en-US" sz="25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Образовательный блок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(сетка занятий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Блок совместной деятельности взрослого и детей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Блок самостоятельной деятельности детей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99680" y="142920"/>
            <a:ext cx="792972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23232"/>
                </a:solidFill>
                <a:latin typeface="Times New Roman"/>
                <a:ea typeface="Times New Roman"/>
              </a:rPr>
              <a:t>КАЛЕНДАРНОЕ  ПЛАНИРОВАНИЕ  ВОСПИТАТЕЛЬНО-ОБРАЗОВАТЕЛЬНОЙ РАБОТЫ</a:t>
            </a:r>
            <a:br>
              <a:rPr sz="1200"/>
            </a:br>
            <a:r>
              <a:rPr b="1" lang="ru-RU" sz="1200" spc="-1" strike="noStrike">
                <a:solidFill>
                  <a:srgbClr val="323232"/>
                </a:solidFill>
                <a:latin typeface="Times New Roman"/>
                <a:ea typeface="Times New Roman"/>
              </a:rPr>
              <a:t>           НА ПЕРИОД:__________________________________________, ГРУППА:_____________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323232"/>
                </a:solidFill>
                <a:latin typeface="Times New Roman"/>
                <a:ea typeface="Times New Roman"/>
              </a:rPr>
              <a:t>ТЕМА:_________________________________________________________________________________________</a:t>
            </a:r>
            <a:br>
              <a:rPr sz="1200"/>
            </a:br>
            <a:r>
              <a:rPr b="0" lang="ru-RU" sz="1200" spc="-1" strike="noStrike">
                <a:solidFill>
                  <a:srgbClr val="323232"/>
                </a:solidFill>
                <a:latin typeface="Times New Roman"/>
                <a:ea typeface="Times New Roman"/>
              </a:rPr>
              <a:t>ЦЕЛЬ:_______________________________________________________________________________________</a:t>
            </a:r>
            <a:br>
              <a:rPr sz="1200"/>
            </a:br>
            <a:r>
              <a:rPr b="0" lang="ru-RU" sz="1200" spc="-1" strike="noStrike">
                <a:solidFill>
                  <a:srgbClr val="323232"/>
                </a:solidFill>
                <a:latin typeface="Century Schoolbook"/>
              </a:rPr>
              <a:t>ИТОГОВОЕ</a:t>
            </a:r>
            <a:r>
              <a:rPr b="0" lang="en-US" sz="1200" spc="-1" strike="noStrike">
                <a:solidFill>
                  <a:srgbClr val="323232"/>
                </a:solidFill>
                <a:latin typeface="Century Schoolbook"/>
              </a:rPr>
              <a:t>     </a:t>
            </a:r>
            <a:r>
              <a:rPr b="0" lang="ru-RU" sz="1200" spc="-1" strike="noStrike">
                <a:solidFill>
                  <a:srgbClr val="323232"/>
                </a:solidFill>
                <a:latin typeface="Century Schoolbook"/>
              </a:rPr>
              <a:t>МЕРОПРИЯТИЕ:________________________________________________ДАТА:____</a:t>
            </a:r>
            <a:br>
              <a:rPr sz="1200"/>
            </a:br>
            <a:endParaRPr b="0" lang="en-US" sz="1200" spc="-1" strike="noStrike">
              <a:solidFill>
                <a:srgbClr val="323232"/>
              </a:solidFill>
              <a:latin typeface="Century Schoolbook"/>
            </a:endParaRPr>
          </a:p>
        </p:txBody>
      </p:sp>
      <p:graphicFrame>
        <p:nvGraphicFramePr>
          <p:cNvPr id="404" name=""/>
          <p:cNvGraphicFramePr/>
          <p:nvPr/>
        </p:nvGraphicFramePr>
        <p:xfrm>
          <a:off x="357120" y="1928880"/>
          <a:ext cx="8286840" cy="4572000"/>
        </p:xfrm>
        <a:graphic>
          <a:graphicData uri="http://schemas.openxmlformats.org/drawingml/2006/table">
            <a:tbl>
              <a:tblPr/>
              <a:tblGrid>
                <a:gridCol w="689040"/>
                <a:gridCol w="574560"/>
                <a:gridCol w="719280"/>
                <a:gridCol w="1386000"/>
                <a:gridCol w="172800"/>
                <a:gridCol w="1559160"/>
                <a:gridCol w="1460520"/>
                <a:gridCol w="1725480"/>
              </a:tblGrid>
              <a:tr h="3747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ни</a:t>
                      </a: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 недел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ежи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нтеграция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бр. обл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овместная деятельность детей  с воспитателе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рганизация развивающей среды для самостоятельной детской деятельност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заимодей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твие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 родителям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</a:tr>
              <a:tr h="703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группова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дивидуальна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92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тр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.т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т.худ.л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тренняя гимнастик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льчиковая гимнастик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журство по столово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уд в уголке природ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витие к.г.н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гры в центре активности по интереса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дивидуальные беседы по запросам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506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544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гулк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блюдение з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туативная бесед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удовое поруче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гры с природным  и выносным материало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771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бота перед сно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тение сказки перед сно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слушивание спокойной музы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витие КГ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гры «Усыплялочки»,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лаксац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70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половина дня, вече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имнастика в постели, ходьба по массажной дорожке, водные процедур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готовка материалов к занятию, атрибутов к инра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323232"/>
                </a:solidFill>
                <a:latin typeface="Century Schoolbook"/>
              </a:rPr>
              <a:t>ОБРАЗОВАТЕЛЬНАЯ ДЕЯТЕЛЬНОСТЬ В ХОДЕ РЕЖИМНЫХ МОМЕНТОВ </a:t>
            </a: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ри планировании образовательного содержания в ходе режимных моментов целесообразно использовать циклограмму, позволяющую педагогу установить «разумный баланс» между видами образовательной деятельности, амплифицировать развитие детей по основным направлениям: физическому, социально-личностному, познавательно-речевому и художественно-эстетическому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Picture 2" descr=""/>
          <p:cNvPicPr/>
          <p:nvPr/>
        </p:nvPicPr>
        <p:blipFill>
          <a:blip r:embed="rId1"/>
          <a:stretch/>
        </p:blipFill>
        <p:spPr>
          <a:xfrm>
            <a:off x="500040" y="2506680"/>
            <a:ext cx="7215120" cy="4351320"/>
          </a:xfrm>
          <a:prstGeom prst="rect">
            <a:avLst/>
          </a:prstGeom>
          <a:ln w="0">
            <a:noFill/>
          </a:ln>
        </p:spPr>
      </p:pic>
      <p:pic>
        <p:nvPicPr>
          <p:cNvPr id="355" name="Заголовок 1" descr=""/>
          <p:cNvPicPr/>
          <p:nvPr/>
        </p:nvPicPr>
        <p:blipFill>
          <a:blip r:embed="rId2"/>
          <a:stretch/>
        </p:blipFill>
        <p:spPr>
          <a:xfrm>
            <a:off x="55440" y="49320"/>
            <a:ext cx="8521920" cy="33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 txBox="1"/>
          <p:nvPr/>
        </p:nvSpPr>
        <p:spPr>
          <a:xfrm>
            <a:off x="456840" y="571680"/>
            <a:ext cx="7829640" cy="43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0" spc="-1" strike="noStrike">
                <a:solidFill>
                  <a:srgbClr val="b45f07"/>
                </a:solidFill>
                <a:latin typeface="Arial"/>
                <a:ea typeface="Arial"/>
              </a:rPr>
              <a:t>Благодарю </a:t>
            </a:r>
            <a:endParaRPr b="0" lang="en-US" sz="8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0" spc="-1" strike="noStrike">
                <a:solidFill>
                  <a:srgbClr val="b45f07"/>
                </a:solidFill>
                <a:latin typeface="Arial"/>
                <a:ea typeface="Arial"/>
              </a:rPr>
              <a:t>за внимание</a:t>
            </a:r>
            <a:endParaRPr b="0" lang="en-US" sz="8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08" name="Picture 1" descr=""/>
          <p:cNvPicPr/>
          <p:nvPr/>
        </p:nvPicPr>
        <p:blipFill>
          <a:blip r:embed="rId1"/>
          <a:stretch/>
        </p:blipFill>
        <p:spPr>
          <a:xfrm>
            <a:off x="3571920" y="3286080"/>
            <a:ext cx="3786120" cy="32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Rectangle 2" descr=""/>
          <p:cNvPicPr/>
          <p:nvPr/>
        </p:nvPicPr>
        <p:blipFill>
          <a:blip r:embed="rId1"/>
          <a:stretch/>
        </p:blipFill>
        <p:spPr>
          <a:xfrm>
            <a:off x="401760" y="669960"/>
            <a:ext cx="8072280" cy="516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 txBox="1"/>
          <p:nvPr/>
        </p:nvSpPr>
        <p:spPr>
          <a:xfrm>
            <a:off x="456840" y="571320"/>
            <a:ext cx="7467480" cy="59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Century Schoolbook"/>
              </a:rPr>
              <a:t>Задачи планирования: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Обеспечение целенаправленного развития образовательных областей образовательной программы, их интеграции;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Создание базы для осуществления контроля за ОП;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Предоставление информации об организации деятельности возрастной группы;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Реализацию новых форм взаимодействия с детьми, родителями в структуре планирования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23232"/>
                </a:solidFill>
                <a:latin typeface="Times New Roman"/>
                <a:ea typeface="Times New Roman"/>
              </a:rPr>
              <a:t>ПЛАНИРОВАНИЕ ОТРАЖАЕТ</a:t>
            </a:r>
            <a:br>
              <a:rPr sz="3600"/>
            </a:br>
            <a:endParaRPr b="0" lang="en-US" sz="36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ход реализации основной образовательной программы,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специфику и развитие приоритетных направлений деятельности ДОУ,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устанавливает связи между занятиями, игрой и трудом детей,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ход и результаты реализуемых творческих проектов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 txBox="1"/>
          <p:nvPr/>
        </p:nvSpPr>
        <p:spPr>
          <a:xfrm>
            <a:off x="456840" y="928440"/>
            <a:ext cx="746748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Закон РФ «Об образовании» (пункт 6.2 статьи 9)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Приказ министерства образования и науки РФ от 23.11.2009 г. №655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Утверждены ФГТ к структуре основной общеобразовательной программы ДО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положения ФГТ являются основой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структуры планирования образовательной деятельности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 txBox="1"/>
          <p:nvPr/>
        </p:nvSpPr>
        <p:spPr>
          <a:xfrm>
            <a:off x="456840" y="428760"/>
            <a:ext cx="7467480" cy="60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«Программа должна основываться на 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комплексно-тематическом принципе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остроения образовательного процесса…»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«Программа должна…предусматривать решение образовательных задач в 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совместной деятельности взрослого и детей и самостоятельной деятельности детей не только в рамках НОД, но и при проведении режимных моментов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…»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«Программа должна… предполагать построение образовательного процесса на 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адекватных возрасту формах работы с детьми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 txBox="1"/>
          <p:nvPr/>
        </p:nvSpPr>
        <p:spPr>
          <a:xfrm>
            <a:off x="456840" y="428760"/>
            <a:ext cx="7467480" cy="60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Примерами построения образовательного процесса по комплексно-тематическому принципу служат вариативные программы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римерная основная общеобразовательная программа дошкольного образования «Успех»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«От рождения до школы»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рограмма «Золотой ключик»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рограмма «Сообщество»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 txBox="1"/>
          <p:nvPr/>
        </p:nvSpPr>
        <p:spPr>
          <a:xfrm>
            <a:off x="456840" y="214200"/>
            <a:ext cx="7467480" cy="625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4" name="Овал 4"/>
          <p:cNvSpPr/>
          <p:nvPr/>
        </p:nvSpPr>
        <p:spPr>
          <a:xfrm flipV="1" rot="10800000">
            <a:off x="2286000" y="928800"/>
            <a:ext cx="4500720" cy="1643040"/>
          </a:xfrm>
          <a:prstGeom prst="ellipse">
            <a:avLst/>
          </a:prstGeom>
          <a:solidFill>
            <a:srgbClr val="f07f09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Schoolbook"/>
              </a:rPr>
              <a:t>Комплексно-тематический принцип построения образовательного процес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Овал 5"/>
          <p:cNvSpPr/>
          <p:nvPr/>
        </p:nvSpPr>
        <p:spPr>
          <a:xfrm>
            <a:off x="1357200" y="3071880"/>
            <a:ext cx="1285920" cy="914400"/>
          </a:xfrm>
          <a:prstGeom prst="ellipse">
            <a:avLst/>
          </a:prstGeom>
          <a:solidFill>
            <a:srgbClr val="f07f09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Schoolbook"/>
              </a:rPr>
              <a:t>те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Овал 6"/>
          <p:cNvSpPr/>
          <p:nvPr/>
        </p:nvSpPr>
        <p:spPr>
          <a:xfrm>
            <a:off x="3857760" y="3500280"/>
            <a:ext cx="1357200" cy="914400"/>
          </a:xfrm>
          <a:prstGeom prst="ellipse">
            <a:avLst/>
          </a:prstGeom>
          <a:solidFill>
            <a:srgbClr val="f07f09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Schoolbook"/>
              </a:rPr>
              <a:t>те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Овал 7"/>
          <p:cNvSpPr/>
          <p:nvPr/>
        </p:nvSpPr>
        <p:spPr>
          <a:xfrm>
            <a:off x="6429240" y="3071880"/>
            <a:ext cx="1214640" cy="914400"/>
          </a:xfrm>
          <a:prstGeom prst="ellipse">
            <a:avLst/>
          </a:prstGeom>
          <a:solidFill>
            <a:srgbClr val="f07f09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Schoolbook"/>
              </a:rPr>
              <a:t>те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Прямоугольник 8"/>
          <p:cNvSpPr/>
          <p:nvPr/>
        </p:nvSpPr>
        <p:spPr>
          <a:xfrm>
            <a:off x="3842280" y="285840"/>
            <a:ext cx="118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В основ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9" name="Прямая со стрелкой 10"/>
          <p:cNvCxnSpPr/>
          <p:nvPr/>
        </p:nvCxnSpPr>
        <p:spPr>
          <a:xfrm flipH="1">
            <a:off x="2356560" y="2428560"/>
            <a:ext cx="429480" cy="572040"/>
          </a:xfrm>
          <a:prstGeom prst="straightConnector1">
            <a:avLst/>
          </a:prstGeom>
          <a:ln w="12600">
            <a:solidFill>
              <a:srgbClr val="ff6c00"/>
            </a:solidFill>
            <a:miter/>
            <a:tailEnd len="med" type="arrow" w="med"/>
          </a:ln>
        </p:spPr>
      </p:cxnSp>
      <p:cxnSp>
        <p:nvCxnSpPr>
          <p:cNvPr id="370" name="Прямая со стрелкой 12"/>
          <p:cNvCxnSpPr/>
          <p:nvPr/>
        </p:nvCxnSpPr>
        <p:spPr>
          <a:xfrm flipH="1">
            <a:off x="4570200" y="2643120"/>
            <a:ext cx="3600" cy="643320"/>
          </a:xfrm>
          <a:prstGeom prst="straightConnector1">
            <a:avLst/>
          </a:prstGeom>
          <a:ln w="12600">
            <a:solidFill>
              <a:srgbClr val="ff6c00"/>
            </a:solidFill>
            <a:miter/>
            <a:tailEnd len="med" type="arrow" w="med"/>
          </a:ln>
        </p:spPr>
      </p:cxnSp>
      <p:cxnSp>
        <p:nvCxnSpPr>
          <p:cNvPr id="371" name="Прямая со стрелкой 14"/>
          <p:cNvCxnSpPr/>
          <p:nvPr/>
        </p:nvCxnSpPr>
        <p:spPr>
          <a:xfrm>
            <a:off x="6143760" y="2428560"/>
            <a:ext cx="429120" cy="500760"/>
          </a:xfrm>
          <a:prstGeom prst="straightConnector1">
            <a:avLst/>
          </a:prstGeom>
          <a:ln w="12600">
            <a:solidFill>
              <a:srgbClr val="ff6c00"/>
            </a:solidFill>
            <a:miter/>
            <a:tailEnd len="med" type="arrow" w="med"/>
          </a:ln>
        </p:spPr>
      </p:cxnSp>
      <p:sp>
        <p:nvSpPr>
          <p:cNvPr id="372" name="Овал 15"/>
          <p:cNvSpPr/>
          <p:nvPr/>
        </p:nvSpPr>
        <p:spPr>
          <a:xfrm>
            <a:off x="2500200" y="5143680"/>
            <a:ext cx="4214880" cy="914400"/>
          </a:xfrm>
          <a:prstGeom prst="ellipse">
            <a:avLst/>
          </a:prstGeom>
          <a:solidFill>
            <a:srgbClr val="f07f09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Schoolbook"/>
              </a:rPr>
              <a:t>интегра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3" name="Прямая со стрелкой 17"/>
          <p:cNvCxnSpPr/>
          <p:nvPr/>
        </p:nvCxnSpPr>
        <p:spPr>
          <a:xfrm>
            <a:off x="2000160" y="4000320"/>
            <a:ext cx="1215360" cy="1215000"/>
          </a:xfrm>
          <a:prstGeom prst="straightConnector1">
            <a:avLst/>
          </a:prstGeom>
          <a:ln w="12600">
            <a:solidFill>
              <a:srgbClr val="ff6c00"/>
            </a:solidFill>
            <a:miter/>
            <a:tailEnd len="med" type="arrow" w="med"/>
          </a:ln>
        </p:spPr>
      </p:cxnSp>
      <p:cxnSp>
        <p:nvCxnSpPr>
          <p:cNvPr id="374" name="Прямая со стрелкой 19"/>
          <p:cNvCxnSpPr/>
          <p:nvPr/>
        </p:nvCxnSpPr>
        <p:spPr>
          <a:xfrm flipH="1">
            <a:off x="4570200" y="4501800"/>
            <a:ext cx="3600" cy="500760"/>
          </a:xfrm>
          <a:prstGeom prst="straightConnector1">
            <a:avLst/>
          </a:prstGeom>
          <a:ln w="12600">
            <a:solidFill>
              <a:srgbClr val="ff6c00"/>
            </a:solidFill>
            <a:miter/>
            <a:tailEnd len="med" type="arrow" w="med"/>
          </a:ln>
        </p:spPr>
      </p:cxnSp>
      <p:cxnSp>
        <p:nvCxnSpPr>
          <p:cNvPr id="375" name="Прямая со стрелкой 21"/>
          <p:cNvCxnSpPr/>
          <p:nvPr/>
        </p:nvCxnSpPr>
        <p:spPr>
          <a:xfrm flipH="1">
            <a:off x="5857200" y="4071600"/>
            <a:ext cx="1143720" cy="1143720"/>
          </a:xfrm>
          <a:prstGeom prst="straightConnector1">
            <a:avLst/>
          </a:prstGeom>
          <a:ln w="12600">
            <a:solidFill>
              <a:srgbClr val="ff6c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6T09:09:02Z</dcterms:created>
  <dc:creator>Лидер</dc:creator>
  <dc:description/>
  <dc:language>en-US</dc:language>
  <cp:lastModifiedBy>USER</cp:lastModifiedBy>
  <dcterms:modified xsi:type="dcterms:W3CDTF">2013-03-30T15:55:16Z</dcterms:modified>
  <cp:revision>46</cp:revision>
  <dc:subject/>
  <dc:title>«Планирование   образовательного процесса с детьми в условиях реализации                       ФГТ»</dc:title>
</cp:coreProperties>
</file>