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3689-E751-4760-B67C-FB20E9387B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99A6-0F20-4422-8859-377F458B0C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D19D-A99E-45FF-8AA3-69CD936E10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EB4E-6BD4-431B-A910-191DC4C0E4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9237-870F-4783-882C-41A9BFBABE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7A5D-75C4-4809-B7E2-66F325893D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36A1-60D3-4BB3-9D29-B4A15519E9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F853-6070-4B42-9BFF-8E286A19D1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C58A-1818-4342-A13C-C8166E3BE5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330B-8B91-47C0-9ACE-7F57555E87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3BE6-E41C-41B1-8C17-5050EB7993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7C7-04CA-401C-B22F-400EF3F4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E651-3507-4A0C-B5A2-145E5FC7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AD6F1-07D8-4398-B1A3-158AD242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C9869-6465-49DD-897A-2D0D2F60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CC0FF-BDE6-45E6-913D-29200F97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537DA-9246-41FB-A192-62E55F15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7F571-AC2D-45A1-80AD-D36D85A4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7947C-B2A0-48A3-BF01-67D63D43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4D8AC-118B-49F5-8768-CD8D0896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D9E3B-9A5B-41D9-85D0-927E67EB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48798-3AAF-48F8-BCB0-8B12F5FC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42839-C301-4FDC-85A4-F991F94D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36FA-5BD5-47E3-AD66-118AC942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10F79-7071-4A82-B9D9-B90C6E10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EA4AE-80CD-42FE-B2AA-B0322C26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C6A31-B9F2-41CF-8EFD-F77BEA1F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DA1B8-47BA-4ACA-A632-95129028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36B35-0F51-45A9-800F-A2A13EBE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C3946-C95C-405D-AD36-CB85B59A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3E6B0-7EAC-4119-A1FB-66DFDEBF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2A9C0-6ACF-486E-AB8B-0CF6B7E4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80D8B-4BD9-4094-9681-5F7A42C0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38870-CF58-4DEC-9B96-218BE481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EE7-CEBB-46E5-9A01-38736BC3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73111-4DCC-482F-B4B2-5D53460B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516ED-1D91-49D9-81C5-474AFE8D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EBD5B-76C5-4D65-B171-FF3B6019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17423-E6C3-4759-A34A-8A676E74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BDE27-EAED-48D1-A661-D3591E1B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A803F-E2A7-425E-B747-AC252C99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34B30-43A2-47D3-B3CB-4BAE4AB5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DDF04-E557-4D63-9555-18254807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9F60B-B45D-45CA-8FD4-4E348C8C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C0C4F-E43C-42F3-B9B9-F31D7884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A43C-6A4D-4347-B69E-40371BD0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10EC8-8B98-4F6B-906D-CC41AF06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DC0F7-B169-4799-8473-BC834AD9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6A368-22F3-43C9-B982-AA617F35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7B4D7-01C8-47AF-B22B-4CD4370A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A2A81-D997-457F-A7BE-9DC2AEE2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7FE66-E8FD-4C1D-87C1-84907543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8895B-5DAE-4215-9B72-FC6B7755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5337D-4546-4239-88DF-ED08A12E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B91EB-3EEF-43DE-A216-815A5A53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A12A0-26E3-4E68-8C39-D713E119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363B-8293-4506-BD2D-C0235C4D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0E652-2A86-49CD-ABFF-35727E09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68C04-6ECA-47E0-95C9-6B8E6706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738F7-F454-4715-919D-DD217472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72C8A-DA8E-41B4-AA7A-195506FF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A247D-D27A-4B5F-B14F-7067E531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53EAB1-DF09-4A9B-815C-75DD6CC7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85BA92-C5E8-427D-B8B1-A672495A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0870F-7B0E-4C20-9922-BF245578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9EC34-00D6-40EE-85A7-9A4A009A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4F717-15DF-434E-83BF-E67F0A6D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2266-AB9B-4640-A006-994C73BD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67576-762B-460C-9B53-4CE55D06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A84DA-2B66-4862-A04E-2327E662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7D006-74AB-49B0-B32B-FBC5832E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0BE78-207C-4AA1-ACCE-A52E4D69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74C84A-538B-4B28-872B-F7A8504E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FE69C-04D0-4059-BFCD-DAF408E0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5D011-0D8D-46A4-8FE0-9B51B29C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85B2-AC2D-4339-9D16-716D734F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74B4-92DD-466A-939E-4AAE8A70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896F-D5B4-462D-9D8C-B302C6F4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1D76-B4A8-4CCD-872A-B59CF857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62C-B6D6-4235-A65C-72884A8C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896C-74B4-4E4A-9BFD-3E5B26B2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55A5-F3C9-4440-B162-EA000B0D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881A-F77F-449D-A0BD-5E23A558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706C-BCFB-473D-AC1C-483D1936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56C8-94F7-4B31-A764-01A37FA5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6D0BE-EBB0-4BF7-A58C-EACDE162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3CBA6-9887-410A-BCEC-8E3DBA7B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4991D-422C-4606-8AE7-37C82CD7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74A25-5D2D-414E-BD90-2DECF7CE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DD83A-86BB-4F6F-BE81-FC533014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A6E-4F44-448C-934B-99F20EC4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F7062-F3A5-4A49-B30E-4C7B286B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879F4-A4DC-4B89-8063-5465F6E9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CC142-F738-4A6D-93AE-848B853B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E7EBD-A9D3-4380-9C22-A1CA1CAB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A013E-B089-424D-8190-61350276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7A415-CC0D-4A3F-A1D2-897A5AEC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C0B20-BF7F-4A65-BA09-7D77C871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23315-B899-4A86-B700-7F7E7CD9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0B640-303F-4B02-986D-5912B2C7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AA285-E741-4328-9262-009AC2D6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146B-01EC-4EB7-9AFE-0338B808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C97C9-570C-4866-8080-91D2A662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5A7C7-4CB9-4B8D-8685-6FF661AD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3FFBB-46D3-4C15-901B-9D230659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B2EB4-8752-42AC-B81D-A2FFA412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8ECFD-8629-4FE5-961A-2F5DED5D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34E53-0CE1-473F-BDF0-89F8EC96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941AA-1A0F-4992-80B1-F2858E9C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A252E-37F4-4A3B-8CA3-767EBA67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B0C2A-83D5-41BA-8D03-A7BF8E3E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1A4B7-F29E-4B9D-B7F0-E47D17DD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DC8F-5749-433F-A2E4-219BCE04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3EE88-FE89-4F2C-8528-9682BDC3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B75E7-9A5A-412C-868B-29CAACEE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672B8-8841-40BC-9134-63E627FC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BE480-114A-4B23-B2D1-737ED6EA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DA32C-BDA4-4D0B-8B9E-067CC5CC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96C93-6031-405A-97D5-169EA2BC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42531-8D3D-4732-8D3F-06D49CF6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F9D02-46D6-4703-9FE8-C39DF53B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C3617-0CC2-4624-A15A-11C44624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E9C17-EE57-4618-B511-890CF7FF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4E5-D00F-441C-AF16-E3EA31B3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40069-81F4-4E7D-A1E5-30E1F168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FEDA4-483A-4E37-ABE5-C8CDD1D4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BA232-26C2-4366-B7D0-894225FE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85E0B-F6DC-4425-9C10-3DB7BF62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A700F-0D13-45F1-B61D-4611A2CA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97D88-079E-4B43-A004-F4E71FEB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8634A-D65F-4A3D-A69D-DD3F2138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CCE13-14CC-429D-9E43-20761C53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5CBAD-85A0-4617-A25C-B670CE67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951E2-A485-4F08-95EF-C89E9ADA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FF3-39B0-4CFD-A5A1-06D9C5E9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2E680-5435-4ADB-9E7B-B06CF302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7A836-E023-4B9D-9E38-71AB6350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C75DF-CE6C-4CE5-AF5D-C2489F1A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5E5A7-BE24-4088-BE59-66358D01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953ED-E4B5-4720-AE21-2E7CDDB0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BE764-6642-4713-930D-9FA3FD63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F6234-020C-400E-A220-C8D9D520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EE64B-D00A-47BB-BDB5-6DCBE638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FD482-F7F9-44DA-B4EA-AE19FB32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314D5-C580-4432-8B87-17C07506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9BA-EAEB-4142-A0BF-BEB8B978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6865A-0D6C-448A-9EBD-A0EC80F4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D0395-F20A-4EF0-A7CE-9473EACC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93379-1E19-43FA-83EE-3B98DBB7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4B36A-6D37-43AD-9640-DC08EEC3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67894-484D-4CDA-B797-ECB204FF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A6D63-B058-4D4B-ADB4-774276D2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C69F2-8C90-496F-AA44-07582169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BF379-6EE1-4458-AA07-C12A373E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CB0FE-A3E1-4D2E-A972-8A39236E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CC375-FF1F-444C-A7B9-8C203B12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2FB-986D-4387-B8D5-0A0E651E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14E28-C613-48CF-8E91-A54BFA93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3B1DD-FA5A-4001-B331-27DAD1DA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D4CCA-F39F-474B-A096-9AA0AEF8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D099A-857C-4A70-85B7-797C8599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33CC9-F015-43DC-AE07-ECF644C0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9DA94-5AA5-4C04-8FFE-BBA621D8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DD931-CB0D-4554-9778-300236BB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2986D-DA94-440F-92B2-6FC44745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AD5F9-B3A3-4EF3-81B1-598E1373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9DCF7-FD5B-4C2F-A740-9324ED64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4E63-0215-46EE-8AE6-E82F82C0E0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C37B-BB68-4FB2-99F0-C6562CE86D8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3841-4BA3-4337-B2C0-4FA3EAEFACA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B309-44AB-4003-871D-D91EF02B456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6D0A-4EB9-4D63-AE48-B3B7A010DD0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88C8-9B3F-4D2A-80A6-39D9DC7E9C4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A011-794A-43A6-BF45-19666745461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184F-4E7D-42AE-A846-37DD5753D72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CBD6-54B9-4641-A7CB-CD7D539D393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CAC4-4271-4993-8405-952FD70A045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7E0E-805D-43ED-A8F4-A9CBBD42B2D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06AD-172B-4AB6-B359-04026049D12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6024-42A0-49B4-8E3C-A581CE452F0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Object 2"/>
          <p:cNvGraphicFramePr/>
          <p:nvPr/>
        </p:nvGraphicFramePr>
        <p:xfrm>
          <a:off x="900000" y="404640"/>
          <a:ext cx="6189840" cy="4840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04640"/>
                    <a:ext cx="6189840" cy="48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250920" y="5229000"/>
            <a:ext cx="86421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предмету «Окружающий мир» 1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Золотухина О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71» г. Пер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Прямоугольник 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5"/>
          <p:cNvSpPr/>
          <p:nvPr/>
        </p:nvSpPr>
        <p:spPr>
          <a:xfrm>
            <a:off x="2124000" y="3244680"/>
            <a:ext cx="328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ные 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371600" y="1052280"/>
            <a:ext cx="640080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Завальнюк Л.Год-пароход М.:Омега, 2001.-43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исунок кораблик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ww.weblance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78920" y="4508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год?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громный пар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транный пароход, необычный пар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лывёт не по воде он, он по времени плыв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rcRect l="0" t="12224" r="0" b="12224"/>
          <a:stretch/>
        </p:blipFill>
        <p:spPr>
          <a:xfrm>
            <a:off x="2627280" y="126828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121200" cy="115272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3683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лежит пред ним зим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елом инее дом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2"/>
          <a:stretch/>
        </p:blipFill>
        <p:spPr>
          <a:xfrm>
            <a:off x="4140360" y="620640"/>
            <a:ext cx="4679640" cy="5112000"/>
          </a:xfrm>
          <a:prstGeom prst="rect">
            <a:avLst/>
          </a:prstGeom>
          <a:ln w="0">
            <a:noFill/>
          </a:ln>
        </p:spPr>
      </p:pic>
      <p:pic>
        <p:nvPicPr>
          <p:cNvPr id="550" name="Рисунок 52" descr=""/>
          <p:cNvPicPr/>
          <p:nvPr/>
        </p:nvPicPr>
        <p:blipFill>
          <a:blip r:embed="rId3"/>
          <a:stretch/>
        </p:blipFill>
        <p:spPr>
          <a:xfrm>
            <a:off x="1116000" y="4076640"/>
            <a:ext cx="165564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Заголовок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3157560" cy="11700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лывёт он по весн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 капели в тиши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2"/>
          <a:stretch/>
        </p:blipFill>
        <p:spPr>
          <a:xfrm>
            <a:off x="3679920" y="765000"/>
            <a:ext cx="5068800" cy="481968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67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208944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24360" cy="1170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лывёт он через лет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м вся земля согр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4968720" cy="525636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61" descr=""/>
          <p:cNvPicPr/>
          <p:nvPr/>
        </p:nvPicPr>
        <p:blipFill>
          <a:blip r:embed="rId3"/>
          <a:stretch/>
        </p:blipFill>
        <p:spPr>
          <a:xfrm>
            <a:off x="1042920" y="3860640"/>
            <a:ext cx="172872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24360" cy="13287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о осе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ывё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ки в небе, дождь и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2"/>
          <a:stretch/>
        </p:blipFill>
        <p:spPr>
          <a:xfrm>
            <a:off x="3851280" y="692280"/>
            <a:ext cx="4968720" cy="489744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55" descr=""/>
          <p:cNvPicPr/>
          <p:nvPr/>
        </p:nvPicPr>
        <p:blipFill>
          <a:blip r:embed="rId3"/>
          <a:stretch/>
        </p:blipFill>
        <p:spPr>
          <a:xfrm>
            <a:off x="1258920" y="3716280"/>
            <a:ext cx="194472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он плывёт и днё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елит природ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рям, что мы зовё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МИ ГО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179280" y="1832040"/>
            <a:ext cx="2305080" cy="20286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" descr=""/>
          <p:cNvPicPr/>
          <p:nvPr/>
        </p:nvPicPr>
        <p:blipFill>
          <a:blip r:embed="rId2"/>
          <a:stretch/>
        </p:blipFill>
        <p:spPr>
          <a:xfrm>
            <a:off x="1332000" y="4221000"/>
            <a:ext cx="2879640" cy="23004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"/>
          <p:cNvPicPr/>
          <p:nvPr/>
        </p:nvPicPr>
        <p:blipFill>
          <a:blip r:embed="rId3"/>
          <a:stretch/>
        </p:blipFill>
        <p:spPr>
          <a:xfrm>
            <a:off x="3492360" y="1916280"/>
            <a:ext cx="2592360" cy="22334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"/>
          <p:cNvPicPr/>
          <p:nvPr/>
        </p:nvPicPr>
        <p:blipFill>
          <a:blip r:embed="rId4"/>
          <a:stretch/>
        </p:blipFill>
        <p:spPr>
          <a:xfrm>
            <a:off x="5940360" y="3500280"/>
            <a:ext cx="2448000" cy="206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 rot="20667600">
            <a:off x="533160" y="968040"/>
            <a:ext cx="5846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 в России, как и во всём мир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ён года – четыр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20000" cy="2279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запом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 –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, ВЕСНА, ЛЕТО, ОС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170560" cy="53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ОГДА У ТЕБЯ ДЕНЬ РОЖДЕНИ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ЗИМОЙ    ВЕСНОЙ    ЛЕТОМ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 КОГДА ДЕНЬ РОЖДЕНИЯ У ГОДА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ЛЕТОМ       ОСЕНЬЮ     ВЕСНОЙ   ЗИМ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ОГДА ЗВЕРИ ЗАПАСАЮТ ПРОДУКТЫ НА ЗИМУ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ЕСНОЙ                                     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В КАКОЕ ВРЕМЯ ГОДА ЦВЕТУТ САД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ИМОЙ    ЛЕТОМ            ВЕСНОЙ   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КОЛЬКО ТЫ ЗНАЕШЬ ВРЕМЁН ГОДА И КАК О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НАЗЫВАЮТС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2216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b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7:01:39Z</dcterms:created>
  <dc:creator>Сергей</dc:creator>
  <dc:description/>
  <dc:language>en-US</dc:language>
  <cp:lastModifiedBy>Сергей</cp:lastModifiedBy>
  <dcterms:modified xsi:type="dcterms:W3CDTF">2013-06-04T17:34:40Z</dcterms:modified>
  <cp:revision>19</cp:revision>
  <dc:subject/>
  <dc:title>Слайд 1</dc:title>
</cp:coreProperties>
</file>