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FB8D-7DBA-4129-B115-5A3DDBF2B5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7F05-A5A0-4883-A8DF-6EDF022D2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A3C-6E7E-4228-9DAB-03524CBF32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CAAB-28EE-42F5-AA67-EE9B9E46E9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D128-C91B-4366-B8D6-B172EAE312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DE98-853D-4028-9A85-9885CBEEE4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96FB-0C90-4C3C-9806-91B187CC78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FBD9-2A93-4232-97AD-52BB472540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243C-E9EB-42A0-A597-C58D460CF2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DD2E-FDDF-4EA8-AFDC-C4637A1C9D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5543-462F-4063-A2A8-64DE6BBD48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1E7-E356-476D-BA8A-D851322E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73D-FBBB-41D5-93F6-8140D9F8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D809E-717B-432A-919E-E401431F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DE812-B641-4C35-A6A9-BDDADCEB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4C541-AA7B-493C-864F-0F4C2D9D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33852-C79F-4FBC-BC9F-B8BFEA6B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70FE7-76F6-430A-B52B-C4ABD243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88A31-E1E2-4B6D-9AC2-8DFD195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37FC4-8D35-47B4-87E0-00CB8307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7F584-28F0-4CC2-92F0-817832ED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0E262-57EF-4D4D-AF79-2E329840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87749-475F-4811-9DDE-4C541C87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89C-E125-4DAA-826E-9E8DF5EB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136E8-680D-4469-B04D-5D1F116F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B6A42-FB5B-4DE0-BED7-E095133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91D23-5B09-4F76-BDDB-2BDDD6BB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82ABF-BEB4-4E70-B298-C1968135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78A8E-97C2-42E5-8C44-027EBBFE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7271C-F29C-4CAD-9B8A-2ACDD3D4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B5095-EF11-442A-9D61-24482E1B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C9F12-9800-4A17-9F1D-982FCAF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48D55-31EF-4526-9CFE-0F8FB10A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369CD-8314-427C-A1E9-94C0A98C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81E-D2BF-406B-921C-014C7EFF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37358-FE5E-422D-A89F-56C4FD83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9A0E1-0BBB-4F88-A78E-D016D841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FD34-1E93-420D-8725-B439E7FA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31D1C-3694-4771-9ABD-E641EF0A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212EF-EC9D-411B-A91B-D405C2E2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6A605-55AE-4824-BD7B-1E724444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AE334-06FE-4D1E-8331-57058515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313B2-A871-4578-8D32-0B0427B1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3E882-C8F2-413F-8F2A-6877EE1E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575B9-E578-45F9-829E-D445918C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113A-8F58-4E8D-8538-5315A538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3EEDF-EBAA-4BF1-9A51-E27DDDEF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C8410-5CB0-4697-907C-DC780405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23B65-5CCA-401F-A2FC-F22BEA1C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A5973-3C0C-47AF-AD4B-9F1E6D82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13A50-F3D3-4C37-86BD-F76A8BD0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9D8A6-A068-4963-8475-3228BD2D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C2D1B-9C58-47C8-9D5B-1D37024B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8C71C-A66B-4745-A40F-75E148E0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F0E24-DDFE-4B8D-9D40-62B7D6CD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D954E-7F06-4697-BA98-ACE491B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D2EB-9454-4C37-873F-0AC92B46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184F6-DCA1-4C33-BBCF-2159A7E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83F24-F3AB-45DE-B5CC-05D007A8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A98B0-A73E-4E51-923D-BF3553C0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5C02B-0441-4FC8-A263-06E0D90A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51465-08A2-4A6F-A911-9AC5A4DC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C36EC-F01A-473B-AA9E-E059DB2F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BA704-36C6-49AF-B712-C8A5E56F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45B39-88D3-461C-83C6-C4B7A960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B76EB-A25D-4EBF-B63A-11ED81BD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394AB-B677-4418-BBAC-41296D03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437E-655D-4A27-9FF0-8BCE3DA7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A1372-FAA3-4EC0-A88F-F752D077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218FC-1597-4A81-8EAE-74CDE606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25921-B071-4868-911C-9963281B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E63CD-F645-44A3-B75D-75684CCE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F6DE2-495C-4A30-8D04-B1AFB507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5427F-AE79-4182-AF8F-5A1826CA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B1FFA-D4C1-427F-A593-5AB4E8E0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161F-9C14-416D-8B11-1CD27102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0E31-9147-4530-BDB9-29BB6438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01CC-F768-42EE-B3A2-BF67401D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78FD-F3A3-4264-9560-26A7E4DD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E09-6050-4D7D-816C-C8BCD83D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2756-A481-4330-8ED3-0E83278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9A96-D253-4AA3-B25C-090FC966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2E4A-2FC3-47AE-B5DF-C20140FA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01DA-4481-48B7-819D-6FE5BB7F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C4ED-0B8B-4370-A6E1-06C655CE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AE88F-EB03-47BC-8740-7AACB944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EC93-A337-4592-B86E-FFE16617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A5CD-E997-48D7-A446-A61B6F38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6C32B-4A93-46B0-920D-BD9D884C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BE0C-6CF1-4581-B301-3FF23C2A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A9D-0AC5-434A-AA4C-33060C88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2A50-E07F-480F-909F-4E0DCF55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753E6-2C47-409A-97BD-B4518D78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77049-AB1D-4786-8310-0D2E644A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65B6-4DEF-4847-9FAB-AE71B73E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E65D-5C4E-4AFA-8B49-8DB0F29D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73E4-2980-4FDA-89E5-0A35C329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082A6-A73A-4CB3-8E55-566F7A2A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F691-E559-4728-BB88-C8B719F9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9313A-8DD0-4E74-BE37-4FAADAFC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4D7F-1EC6-4576-9BA3-02D0C2DE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4EC-CD7C-49D8-B36B-B2B57B87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1C8F-897D-4FF5-8BD4-7EA0FD27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5A283-6A23-4434-B7A3-122369F2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2F4C0-31FA-4675-A708-D37A6557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6CE0-8BA2-4676-9A8E-18D78A2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CABF-C5DB-4D61-96D8-56BE8F5A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C5C44-0D3C-42B5-8527-915F1F4D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630E-EB44-4B17-94BB-993F83F0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08DA8-D876-476D-85D3-E5B36B5A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72D26-BA70-4A27-84AC-EA0183CA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30B00-A303-479A-9B29-BDCC121E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053-7E93-413E-A97D-B0BD0822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EA22-1310-4462-8704-D21916DE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0387-8B28-45EE-8A17-EFCD3133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02E84-4FFF-4361-B5BC-A0D9C696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1D16B-9DA3-4B4B-96B9-99C19171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F02A-2952-4DAC-9B2D-2E9D72B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3CCDA-99CB-4053-9E16-BBF10387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980B8-E35F-4B3B-AB15-05F7E54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FAAF4-D4AF-4B2E-9DF0-2EFB2C9D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88A6B-D8A5-4741-84FD-ECFA9F47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D6118-9897-4FA9-AD17-5F3A47D3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E62-FBF2-4EAC-8485-2FEACFD7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9BF1-8F5D-4750-8176-96D91C83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87DB-4951-48E5-8FE6-C3372CE8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68144-64CD-4B42-A919-E5921ED7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2EE6C-7706-4749-BA91-ADB6ADB4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27071-FB1F-45D1-94AA-377528BD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268F9-D9BA-4DBC-AFBE-7AC318BA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7A3D5-8075-4D03-80BF-C2091A2C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AD596-5446-46CB-B668-4BCE5406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965B7-C0D0-409C-9A79-2032D00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37391-22EB-48DE-BD64-D1649B7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D34-2BA3-4D53-85F7-903A9FF9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826E-B9A3-47FE-8099-5773B1C9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7670D-5AEC-4ADE-8E4C-FF42481E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E61D1-CF3E-4B96-A41D-2C14C331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6833F-7F5B-443F-BD9E-5CF76385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424AD-E746-4BBA-9DA5-2F3F3F48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CD84C-69A8-490C-B52D-DF45559A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9EBA9-2A44-4508-9C1B-01F2B628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C160-729C-4122-9FA8-371C0719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140E6-51E6-4558-A06D-86472823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3F519-CFA5-42CA-94F7-493DEF1B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E4B-CB1E-49A0-ADCC-AA5E9FB4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29A8C-9389-47EE-B48C-D84B7DD2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81E3-DFEA-45D6-8560-99D1B5D9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C653E-21FC-4999-B02C-AD2E2CC7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81C59-9B3B-4DA9-94CC-64E3FBFF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9A86A-1C78-4A9D-BFCD-1B38ED90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40909-2918-4DB3-9A59-18B767A3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8861-316B-436C-9843-921AC13E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2FB91-9A58-438B-B52F-DB817A30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C7BA7-C2E8-4B80-80C3-128FDA60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FA0CE-FE9F-4E44-AF3F-8D80957E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311-8B64-4CF9-B022-82CDAF6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E9C6C-72EA-43B2-AA4B-C82346E2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2E10B-54C9-4E07-8607-0350B9E6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49B18-E6A4-472D-9CCF-4E7E2C1E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F1A12-B317-4760-98B1-B1C945DF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E02F8-2626-4D2A-91F2-C1869A37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A5DFF-B490-42CF-ACDB-585D5601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8E10C-4720-45A4-A231-5E980456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75D1B-B1A9-4AA8-A069-2CE80A01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4F165-FAA0-42D3-A0BA-82DF7D2D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A30B2-ECD6-471D-B582-1FF20343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E41F-D4C3-460C-BE1E-6C9F8FD7C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650B-30C9-4059-8627-790364EC622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0B32-988D-4F9A-867D-43102984789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9DC-914E-43DB-BAB7-06A1A79C3BC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6C56-9F14-4969-9B00-76A2C9BDC91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B494-55E0-426E-9F4D-F03EC33983F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3A6C-9786-4882-ACD0-C5A4937FEC8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903-75A4-407A-825F-53797A143EE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30DF-FF2E-4780-8861-737DE3EBC81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DA95-2383-4638-80F5-5C17EF3027B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7033-DDB6-4A36-ADFB-307DCA866F9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E0EA-B4D3-421E-9D50-93894E07038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0EB1-5EDA-4107-8DC9-05B9D948276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900000" y="404640"/>
          <a:ext cx="6189840" cy="484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618984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предмету «Окружающий мир» 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Золотухина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71»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124000" y="324468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авальнюк Л.Год-пароход М.:Омега, 2001.-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исунок корабл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ww.weblanc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од?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гром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ранный пароход, необыч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лывёт не по воде он, он по времени плы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12224" r="0" b="12224"/>
          <a:stretch/>
        </p:blipFill>
        <p:spPr>
          <a:xfrm>
            <a:off x="2627280" y="126828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121200" cy="1152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жит пред ним зи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ом инее дом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679640" cy="511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2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7560" cy="117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по весн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капели в ти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679920" y="765000"/>
            <a:ext cx="5068800" cy="4819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67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0894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через ле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вся земля сог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52563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328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вё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ки в небе, дожд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4968720" cy="489744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55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он плывёт и днё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лит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что мы зов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МИ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2305080" cy="202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2879640" cy="2300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 rot="20667600">
            <a:off x="533160" y="968040"/>
            <a:ext cx="5846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в России, как и во всём м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ён года – четы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200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ВЕСНА, ЛЕТО,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ОГДА У ТЕБЯ ДЕНЬ РОЖДЕ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ИМОЙ    ВЕСНОЙ    ЛЕТОМ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 КОГДА ДЕНЬ РОЖДЕНИЯ У Г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ОМ       ОСЕНЬЮ     ВЕСНОЙ  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ГДА ЗВЕРИ ЗАПАСАЮТ ПРОДУКТЫ НА ЗИ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ЕСНОЙ                                  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В КАКОЕ ВРЕМЯ ГОДА ЦВЕТУТ САД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ИМОЙ    ЛЕТОМ            ВЕСНОЙ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ТЫ ЗНАЕШЬ ВРЕМЁН ГОДА И КАК О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ЮТС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7:01:39Z</dcterms:created>
  <dc:creator>Сергей</dc:creator>
  <dc:description/>
  <dc:language>en-US</dc:language>
  <cp:lastModifiedBy>Сергей</cp:lastModifiedBy>
  <dcterms:modified xsi:type="dcterms:W3CDTF">2013-06-04T17:34:40Z</dcterms:modified>
  <cp:revision>19</cp:revision>
  <dc:subject/>
  <dc:title>Слайд 1</dc:title>
</cp:coreProperties>
</file>