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9AD85-E376-4F87-AF9A-C9594E1E661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C6273-BE37-4036-9ACB-1081E452744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9DB09-6EC6-4FD9-BA21-FFD8F24284B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1A72D-2ABC-4C3C-9D5F-9A7701160A6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0DD6D-3AC8-4CEF-B481-12C550AD5B5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3E20F-DDD0-4FAC-9B16-9C180028985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97D28-1D25-4437-88DE-46699223CCD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D652-279D-43CB-BF8A-D075FAE68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6B38-3B05-4ACD-A5AA-38E566C03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FD269D-94D9-46BB-B2BB-FD67EEFE1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B33C19-349D-4BE5-AD8A-EAC03260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95BD76-25A8-47B0-B4D1-BB9BF13E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673739-3E70-4906-82A0-8036E36F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BC51E7-E63E-468E-A526-F2E0F824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A35B85-F619-407E-8B51-39E4D30E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627576-16BE-4EF5-93F2-CD8866DF0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260A47-4219-4EB3-9ECC-45DE929FD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4A9D25-C16B-4319-9B78-4E1F747DD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2A7D8A-CF1C-4864-B46B-788E842A3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F715-2F0F-4369-814E-0EDC7E0F3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DD9079-B8C5-49FC-972C-14F8CEF63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0C6B32-449C-456B-B07D-698849B50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DC1E1A-F688-4389-9E14-45F6BCA0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F1DFB9-FE24-49AF-BC3C-1339DBAB8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E1CC7B-C426-45C5-9ECE-A2255922D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34902E-EFA3-467D-B18C-C0B42A4E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D858C1-2F57-41C0-B234-CEA14504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05C36A-8A43-47BA-87DC-4CA7CF99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C40E91-9666-4B2F-9051-B67810413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DF039B-9E6E-46BD-836F-D4B4A542B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5337-9900-497F-93C5-90515A4E9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769471-BF1A-4920-A593-3E6E0C791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6E30EE-916D-41C2-A64D-73081832C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3F0CE1-69E5-4EB4-A1A4-21505DADD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807657-97A6-4B97-B3EE-836CB5AED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7ACFE6-A2F8-434D-875B-2102E28CB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B6423F-E4B7-4D1A-BAD3-B8E74A78D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8BD8F7-7D26-4750-8254-A82FB0B0E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6414B1-419F-4CAD-8543-9D041BAD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5771A9-0FB0-4F90-A9A4-D0F8C89F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1B0236-BC16-40D2-AE20-D736169D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B3009-7A32-43AF-AEE4-BD0F342DF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76D7E5-CB5B-43F7-87F0-65897229C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DF0DE9-8F91-435E-99F2-6BBA838AC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010D54-D865-4067-A508-11979CFC8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2F957C-72E4-4BDB-8993-918967159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B62A4A-BB29-454B-A45A-2BE7E695C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CF2B73-E133-4295-B7AF-436DA1D39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B14E3E-FE1D-4850-AD99-0BF0C9833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A27778-56ED-4975-908C-B43823C9E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F59749-E7DB-40F0-92DE-9B1013F82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4373E6-2BA7-4A5F-B40C-1C1661EB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DC2E5-1CBD-4AAC-A020-4ACB4D62D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B7150B-B823-4FAC-8492-B537F4DD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4F5DE7-A786-4618-A4A9-A93B4669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643544-DADE-470A-9D63-5415BB1D2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80D1AA-E097-4F8A-96DE-5678DF390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448687-3648-456D-857C-9999F1B8C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E25BF9-A847-4F90-BC13-52F7A1051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BA6A90-A1EF-4CDD-A984-C48E4A2C4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0D72D2-5294-466C-8238-D0CCA84CA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A61C6A-AF67-45F3-8720-417A07E89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12C91D-D4FF-43B4-9515-3757B3652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CE9AB-D8FC-4E0D-9098-07C0794FA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6E4972-7CC4-40B5-953A-9E6F1C18C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E76741-A940-4B38-8556-B2580B35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6ADB47-467A-42C6-BB94-69EAD50C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7D4A45-1EAA-42F9-9646-990AF8E5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0AAD9A-70A8-43B4-9654-E429A0F2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62DAB1-9F6C-4F19-9470-F6F935D8E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22F3D7-6B30-4D6C-9418-59320DF51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BBC6D-B753-43C8-9D86-E004161DB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06D45-50EA-44F1-8505-9377EB0F8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DC452-8679-44AF-9F9F-DA4F068A0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F8681-08F8-416F-ADFA-218362D3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8F43-5620-430C-9416-6AE2F242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3AC06-735E-4437-889F-855FA8F4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89144-AF8E-4AB6-ABE5-8274E93C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874AA-2AF4-4FC9-A6A2-69DED1CC5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C8780-53A6-4928-9834-B5F795158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FBFE5-EE59-4AD2-BCC5-6A8E7EC3A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F6E7C-3B96-471E-A32C-243AB688D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71CD5-4A83-4C68-8AAA-18E0DA00A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3FCD9-A8B9-4D41-8173-5CAF2D5DC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882C3-4F4C-41E0-8DC4-C7609C2AA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8DFB8-EA22-4ABA-935C-3FE0ED555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C4B6-277D-45BB-844B-559E88C43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81863-3E22-4275-A365-12A2938BC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9FDFC-16E9-4D0F-9CF4-969D72A8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2C891-C84E-46DA-9B2C-8E9D2F28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9205A-C5C4-461B-BDD2-5B8ED758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5C584-F27E-4D11-B9B0-C5DB93BC2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642D7-3FB4-45A1-AB19-67FD85CEC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94788-1514-4615-A566-EC64AF870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86386-E269-47F7-A294-9B60EE520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8FB92-E793-4612-B14E-5669F9A6F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54832-F98F-4D9F-929E-E07349221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CE67-6567-4759-8C99-46403E20F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E687D-6302-4A97-97A0-BAE4613BF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59247-4EF6-4796-9F6B-FD9DB0ABC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4D3C6-56C2-40DE-A4B7-B97BF173C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D5C87-D264-4D32-9CBD-E00E9CFB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484FF-25B9-4317-AC4F-0DA4DAFB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0B29C-A927-4D8E-B93F-5A684DEF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C232C-F600-4785-B74B-3C1B3D5DD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1F863-D00D-493A-9174-42BD54E15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4997F-1BF8-4EDF-BF57-E9E7067E7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939AD-CC01-4BDB-B7E4-C2CEE3250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C02C-302D-4929-9531-4A7BCC8A6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8DBF5-8C1E-478A-9431-F178D8D2B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4026C-E581-4DFF-B9FE-B730761FF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727E8-3CE4-44E7-B189-997F2FD9C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B37F8-557F-48E7-98AB-ABEB7C739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680D0-1339-4A6F-BB8C-A4F450657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A1E3A-ED10-4389-9064-B69FFCCA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3F115-945B-4A13-9367-499A12C7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9BE71-22C4-49CB-BD4A-2B61D79A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BAC74-526E-402D-94F5-CF564DE90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36644-59AD-462A-95E0-6A7EA5E43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3816-52C2-4A47-BF4D-EE4472221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4E396-76B0-4CC1-BCD2-C666CBE56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3DF311-486D-450E-9CFA-8F7125D25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EC403D-EEF6-4ADD-A71D-C8141B454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7A8B5-C5E4-4552-B02D-71A5DB1D4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D2229-D308-47AC-9D7E-2B2D04C8B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8508B-EF48-4098-A023-9CAC34385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4E395C-4028-46D2-9E42-B8B2AB880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FD89C-5983-4E3C-B52E-DA1D66ED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348A5B-44BA-40F6-9B88-5A89594A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E2032-982D-4D55-A832-24F47387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93DD-918A-42AE-9D75-AAF127EC5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18651-4E32-4CDE-8C5F-38A2931AB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B8A63-FBD1-4750-B985-2B102166E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B0712-6B52-4531-A9BC-4ABA22B23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B6BAAB-6EA9-43A4-9BBF-82976675D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1005F9-080B-44A4-A74A-E39602186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BB88C0-AC3A-4E82-A95D-0D285F2A0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FF061C-FA63-43FF-9C22-EDCD8DD14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6330D-F7BD-417F-AE25-03C32126E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B16D0-F32C-4CEF-830D-01D4FB179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8EFDE-EE26-49B9-BFB6-9143E384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79D1-88EC-4710-A102-84D0DC32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668B53-6558-40A3-8D94-533F3D17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7C91E-5993-4466-BB12-D620F099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F2258-4589-4C16-BB77-1D57C99BF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64B60-CE0F-44D9-8951-753CEC80A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F60224-8DB4-402D-A21A-697330B45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D0F03-C7E2-43A4-ACA4-BBA751EEE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CC8F83-0D43-46F3-ADCA-96C2E8CE4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37423B-393A-4D3F-9ECE-AB28F73BA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33A5A2-6C4F-44F6-9E08-6AABB6834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1E5636-58C1-44DD-A2B9-A8E30ABA4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C7B9-7489-4FAD-BB67-D69824D1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A931BD-59C3-48DE-A803-5EA5F68C2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A457DB-DB7F-4E1F-A5B7-CEED0F56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2FC41F-0552-4CDB-8847-5AF7273E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D053DF-3FD0-49EF-843A-D39ACC70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F92F32-6EB6-464B-8FCC-BB6FD8DC0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FF01D1-D7A0-46B5-A9ED-C6AF9F981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B469EE-85F4-4F68-8BC0-CB2A12C9A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A9F31E-EF37-4D04-B397-DB53ACE44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396B26-8327-421E-9CE3-5CD392A11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072F22-9614-4222-AE92-B25D7FF62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50F73-50C3-4C46-A876-6EBE6DBB6DC4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56399-3DA9-4993-A334-92BEB7C5454B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8431A-9E3A-4E21-9B05-CE9DC250EC67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EB650-64B9-4794-8BF5-F367CE6CC8AC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34C7C-E649-47AC-80ED-F80E25D712A1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CAAC7-7C5F-4AC7-9BAB-B3D5CABB133A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FF2E2-EEE9-4781-AD41-0D584EC51FF1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B8C34-8058-4568-99CC-5B295DC24B80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406F8-40F0-4DB7-9AE7-274ABB5FC7B2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E4B4C-9AC6-4074-B0E4-1F0C4067309E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DB1C2-EB55-443A-AE28-70A78A734F33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199D9-1A70-4F7C-A31E-C1EFEFEACA78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DA600-5DE6-43F1-ABD3-B013BEA5E107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класс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а: «Школа Росс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3058920" y="3885840"/>
            <a:ext cx="4392360" cy="25671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ила: Золотухина О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ОУ «СОШ№71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. Пер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Прямоугольник 3" descr=""/>
          <p:cNvPicPr/>
          <p:nvPr/>
        </p:nvPicPr>
        <p:blipFill>
          <a:blip r:embed="rId2"/>
          <a:stretch/>
        </p:blipFill>
        <p:spPr>
          <a:xfrm>
            <a:off x="244440" y="2023920"/>
            <a:ext cx="8655120" cy="72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называется это домашнее животно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6459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ru-RU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3" descr=""/>
          <p:cNvPicPr/>
          <p:nvPr/>
        </p:nvPicPr>
        <p:blipFill>
          <a:blip r:embed="rId1"/>
          <a:stretch/>
        </p:blipFill>
        <p:spPr>
          <a:xfrm>
            <a:off x="971640" y="2060640"/>
            <a:ext cx="705636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99444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гласных и согласных звуков в сло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6459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7200" spc="-1" strike="noStrike">
                <a:solidFill>
                  <a:srgbClr val="336600"/>
                </a:solidFill>
                <a:latin typeface="Arial"/>
              </a:rPr>
              <a:t>О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РОВ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слогов в слов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Прямая соединительная линия 4"/>
          <p:cNvSpPr/>
          <p:nvPr/>
        </p:nvSpPr>
        <p:spPr>
          <a:xfrm flipH="1">
            <a:off x="5003280" y="1989000"/>
            <a:ext cx="360360" cy="43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Арка 8"/>
          <p:cNvSpPr/>
          <p:nvPr/>
        </p:nvSpPr>
        <p:spPr>
          <a:xfrm flipV="1">
            <a:off x="2987640" y="3429000"/>
            <a:ext cx="914400" cy="216000"/>
          </a:xfrm>
          <a:custGeom>
            <a:avLst/>
            <a:gdLst>
              <a:gd name="textAreaLeft" fmla="*/ 0 w 914400"/>
              <a:gd name="textAreaRight" fmla="*/ 914760 w 914400"/>
              <a:gd name="textAreaTop" fmla="*/ 0 h 216000"/>
              <a:gd name="textAreaBottom" fmla="*/ 108000 h 216000"/>
            </a:gdLst>
            <a:ahLst/>
            <a:rect l="textAreaLeft" t="textAreaTop" r="textAreaRight" b="textAreaBottom"/>
            <a:pathLst>
              <a:path w="914400" h="215900">
                <a:moveTo>
                  <a:pt x="0" y="107949"/>
                </a:moveTo>
                <a:lnTo>
                  <a:pt x="0" y="107949"/>
                </a:lnTo>
                <a:arcTo wR="457200" hR="107950" stAng="-10799992" swAng="10800000"/>
                <a:lnTo>
                  <a:pt x="860425" y="107950"/>
                </a:lnTo>
                <a:lnTo>
                  <a:pt x="860425" y="107950"/>
                </a:lnTo>
                <a:arcTo wR="403225" hR="53975" stAng="0" swAng="-108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Арка 9"/>
          <p:cNvSpPr/>
          <p:nvPr/>
        </p:nvSpPr>
        <p:spPr>
          <a:xfrm flipV="1">
            <a:off x="4067280" y="3357720"/>
            <a:ext cx="914400" cy="358560"/>
          </a:xfrm>
          <a:custGeom>
            <a:avLst/>
            <a:gdLst>
              <a:gd name="textAreaLeft" fmla="*/ 0 w 914400"/>
              <a:gd name="textAreaRight" fmla="*/ 914760 w 914400"/>
              <a:gd name="textAreaTop" fmla="*/ 0 h 358560"/>
              <a:gd name="textAreaBottom" fmla="*/ 179280 h 358560"/>
            </a:gdLst>
            <a:ahLst/>
            <a:rect l="textAreaLeft" t="textAreaTop" r="textAreaRight" b="textAreaBottom"/>
            <a:pathLst>
              <a:path w="914400" h="358775">
                <a:moveTo>
                  <a:pt x="0" y="179387"/>
                </a:moveTo>
                <a:lnTo>
                  <a:pt x="0" y="179387"/>
                </a:lnTo>
                <a:arcTo wR="457200" hR="179388" stAng="-10799992" swAng="10800000"/>
                <a:lnTo>
                  <a:pt x="824706" y="179388"/>
                </a:lnTo>
                <a:lnTo>
                  <a:pt x="824706" y="179388"/>
                </a:lnTo>
                <a:arcTo wR="367506" hR="89694" stAng="0" swAng="-108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Арка 10"/>
          <p:cNvSpPr/>
          <p:nvPr/>
        </p:nvSpPr>
        <p:spPr>
          <a:xfrm flipV="1">
            <a:off x="5219640" y="3429000"/>
            <a:ext cx="914400" cy="287280"/>
          </a:xfrm>
          <a:custGeom>
            <a:avLst/>
            <a:gdLst>
              <a:gd name="textAreaLeft" fmla="*/ 0 w 914400"/>
              <a:gd name="textAreaRight" fmla="*/ 914760 w 914400"/>
              <a:gd name="textAreaTop" fmla="*/ 360 h 287280"/>
              <a:gd name="textAreaBottom" fmla="*/ 144000 h 287280"/>
            </a:gdLst>
            <a:ahLst/>
            <a:rect l="textAreaLeft" t="textAreaTop" r="textAreaRight" b="textAreaBottom"/>
            <a:pathLst>
              <a:path w="914400" h="287338">
                <a:moveTo>
                  <a:pt x="0" y="143668"/>
                </a:moveTo>
                <a:lnTo>
                  <a:pt x="0" y="143668"/>
                </a:lnTo>
                <a:arcTo wR="457200" hR="143669" stAng="-10799992" swAng="10800000"/>
                <a:lnTo>
                  <a:pt x="842566" y="143669"/>
                </a:lnTo>
                <a:lnTo>
                  <a:pt x="842566" y="143669"/>
                </a:lnTo>
                <a:arcTo wR="385366" hR="71835" stAng="0" swAng="-108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77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77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" dur="77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" dur="77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77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" dur="77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" dur="77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" dur="77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6358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де на изображении коровы можно найти букву «О»?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раз она вам встретилас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6459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ru-RU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2" descr=""/>
          <p:cNvPicPr/>
          <p:nvPr/>
        </p:nvPicPr>
        <p:blipFill>
          <a:blip r:embed="rId1"/>
          <a:stretch/>
        </p:blipFill>
        <p:spPr>
          <a:xfrm>
            <a:off x="324000" y="2349360"/>
            <a:ext cx="7632720" cy="4319640"/>
          </a:xfrm>
          <a:prstGeom prst="rect">
            <a:avLst/>
          </a:prstGeom>
          <a:ln w="0">
            <a:noFill/>
          </a:ln>
        </p:spPr>
      </p:pic>
      <p:cxnSp>
        <p:nvCxnSpPr>
          <p:cNvPr id="555" name="Прямая со стрелкой 5"/>
          <p:cNvCxnSpPr/>
          <p:nvPr/>
        </p:nvCxnSpPr>
        <p:spPr>
          <a:xfrm>
            <a:off x="4716000" y="1844280"/>
            <a:ext cx="72360" cy="280908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556" name="Прямая со стрелкой 9"/>
          <p:cNvCxnSpPr/>
          <p:nvPr/>
        </p:nvCxnSpPr>
        <p:spPr>
          <a:xfrm>
            <a:off x="3203640" y="2060280"/>
            <a:ext cx="216720" cy="2664360"/>
          </a:xfrm>
          <a:prstGeom prst="straightConnector1">
            <a:avLst/>
          </a:prstGeom>
          <a:ln w="7632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557" name="Прямая со стрелкой 12"/>
          <p:cNvCxnSpPr/>
          <p:nvPr/>
        </p:nvCxnSpPr>
        <p:spPr>
          <a:xfrm>
            <a:off x="971640" y="2204640"/>
            <a:ext cx="2232720" cy="3312360"/>
          </a:xfrm>
          <a:prstGeom prst="straightConnector1">
            <a:avLst/>
          </a:prstGeom>
          <a:ln w="57240">
            <a:solidFill>
              <a:srgbClr val="ffc000"/>
            </a:solidFill>
            <a:miter/>
            <a:tailEnd len="med" type="triangle" w="med"/>
          </a:ln>
        </p:spPr>
      </p:cxnSp>
      <p:cxnSp>
        <p:nvCxnSpPr>
          <p:cNvPr id="558" name="Прямая со стрелкой 17"/>
          <p:cNvCxnSpPr/>
          <p:nvPr/>
        </p:nvCxnSpPr>
        <p:spPr>
          <a:xfrm flipH="1">
            <a:off x="5651280" y="2421000"/>
            <a:ext cx="1800720" cy="180072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77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770" fill="hold"/>
                                        <p:tgtEl>
                                          <p:spTgt spid="5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816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Напишите слово в тетради для словарной работы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Разделите слово для переноса, поставьте ударение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826920" y="2133360"/>
            <a:ext cx="727416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ru-RU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2" descr=""/>
          <p:cNvPicPr/>
          <p:nvPr/>
        </p:nvPicPr>
        <p:blipFill>
          <a:blip r:embed="rId1"/>
          <a:stretch/>
        </p:blipFill>
        <p:spPr>
          <a:xfrm>
            <a:off x="2195640" y="2133720"/>
            <a:ext cx="4968720" cy="35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иши грамот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-3096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Чтоб не обиделась корова,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И не прокисло молоко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Должны запомнить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Что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Напишем только с буквой </a:t>
            </a:r>
            <a:r>
              <a:rPr b="1" lang="ru-RU" sz="29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ованные ресур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250560" y="1557000"/>
            <a:ext cx="84344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ctr">
            <a:no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 Шаблон презентации «Луг»// Федотова Виктория Александровна, учитель начальных классов МОУ СОШ с. Лохово Черемховского р-на Иркутской об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В.В. Волина.Учимся играя. – М.: Новая школа, 199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Рисунок «Корова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http://selnov-grahovo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coollady.ru/puc/4/korova/6.j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Рисунок «Корова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http://raskraska.eu/zhivotnye/korova.p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. Рисунок «Корова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http://raskraska.eu/risunok/zhivotnye/korova/raskraska/korova-37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2T13:22:31Z</dcterms:created>
  <dc:creator>Сергей</dc:creator>
  <dc:description/>
  <dc:language>en-US</dc:language>
  <cp:lastModifiedBy>Сергей</cp:lastModifiedBy>
  <dcterms:modified xsi:type="dcterms:W3CDTF">2013-06-10T15:49:12Z</dcterms:modified>
  <cp:revision>42</cp:revision>
  <dc:subject/>
  <dc:title>Слайд 1</dc:title>
</cp:coreProperties>
</file>